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E4C3-7064-4DE7-990E-835B85D4F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423C-8EBD-4A08-ACB7-4357B03F936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7E3005-AAE5-4BB0-80FE-65068F60471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CA2F1A-26E1-4B46-90DA-91B3B9C3F8E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E53551-DDB9-4538-9615-49D3550DC31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DD7215-04D2-47C2-827B-F9B57CC7683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2D72EB-D6E6-4E9A-B0DC-B59446256D4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3CC03B-406E-4AB3-B419-CC16A2C2D66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F8396F-8B76-4E9C-A69E-84497AEA2BB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AA2DA-95C2-4EF7-973B-BEEE32DEF78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593975-328C-4A03-B0EE-30554B7A608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7FB66A-E2DB-4B79-B176-EDF6783FA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3605-40CA-4507-B881-4A31BB245B8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FD2914-ABC7-4E6C-8224-AC479410A9A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970447-5915-4827-9D89-62B4E6EB6DB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78DDF8-6A41-4851-8C30-41D8EC3EA06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B7824E-D4E4-4017-A6A8-7A3D7E1ED1B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D87084-2135-4145-869E-FA9AD7C70F0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463DDD-EBE1-4147-8B97-ADB17B720C7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E3846B-9C66-4B26-90A1-25762CA9B83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D6C276-C0E4-40FA-8253-E11D2F4917F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F6D791-B4B0-4373-A29A-8DE1721FE90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E825DB-641A-4733-98E6-52EEFDC4D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BB9D6-B761-4FD1-8D13-518D76027FE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A57298-0558-49D3-AEDD-63C2CC1929D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31C72-C3A2-4B0C-8D78-E50190831CF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B32C7-5490-4054-8F6F-0A9C608BF4D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9CD05-3F97-40EB-A238-4272AD10E1F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6A58F-382E-4152-8191-5246143DF77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197C6-0017-4B2A-B6B4-C85FF8DD577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2A0F6-EDC8-414F-A0F8-78B6A453E3F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B2AD1-1800-4039-BA30-249D7F483CE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0A5C2-3596-411E-9A55-E2869F04E38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93908-1F70-408E-B7D8-7CB63F5E5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3A0E-E7DC-494B-9FEA-006991F325C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AA17B-1F0D-41A6-A56C-C6A3F2C5FAA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50BC4-C912-427C-8698-C59E6C01577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32573-29C6-41C7-979F-ED2EF6BF330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A7F509-6381-4892-B879-EA94E186C0A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88A235-6685-4396-946B-6AF81B623FE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6F06B9-F5C8-4B3C-97DD-ADB73895BF4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BD4C8B-6A6D-444F-881F-68FFD6E825D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043C9D-13F0-4C38-9805-110D782549A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73249A-D570-4E0E-8A0E-17461CFA5A5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64E40E-D060-4B29-A277-B07208C2CC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3BCF-DF87-47BC-88C1-BE13BF3469A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E92CAA-3A8D-4296-95D3-AE8A7D2EAC1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DE5733-CBED-4D2E-B322-09EE53A9237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F29376-C32C-481B-BC0E-D6D369B6649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A3E649-EEA0-42D6-88B5-70A271B4A67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F2EAF8-63A4-4D5D-BF12-805A155EDD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C005-B06B-4987-A690-E933A37E39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673-6C5E-400B-8450-4E7BB53BDD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5373-38FE-4A7D-8C50-A568293B47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AD4-7C72-46CD-BB53-949AB39F2B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E3D-8C64-469A-A4CF-86232FB70F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142E-CAFF-4905-9A34-9EAEEC781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849-9B4A-4EA5-BE29-28A41E640B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096-ECCF-4564-AC66-E6DCA0BCCF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9A1-3999-49D0-BE81-0D98F1B197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8F8-81C3-46BD-8A93-DBB5963D02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0CE6-1FF1-48AA-8734-46A2BFE61A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F578E-389D-412B-9FF0-EF56CCBED7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AFFB1-9DCB-4CEC-9224-B155C2B55C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A4B20-C91A-4400-BFCA-676958A25F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1A710-0EAA-425F-830E-6EEA71BF39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A16E1-7EC9-44EF-89D9-158F3FB051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81E2-9756-4E76-95E4-C6E71E07CC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527AB-B394-4F76-9720-1D38BF2B3B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B2127-26B4-466D-9864-EF83267B9C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8F7C4-3255-42B9-8A2B-9BC04DEDA2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747F9-C036-4E25-BE3B-E7CB8D9659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6F9CF-9E45-49D2-9AE1-F88704D467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0D9C5-2AB8-4316-9441-B33F1620C9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DD2F8-0649-43CB-9637-A208C63A9D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790779-2BC8-4A29-8D3E-F62AF6C86C0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94E222-494D-4E8D-BBDF-9550D38DBF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897E89-7F3D-4E15-9227-CE5E8C494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7ED7-BE8E-4216-BF7D-D0F74DB5E9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662AF0-5708-4C6A-A9C6-B6B77381C1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B97385-DA8C-4F8F-AF1C-A589F6C43D4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EACF0D-57B3-4593-A8F4-E25C8C5FBE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467E66-641F-4AC5-9B37-786A65539C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1B2ED9-16B7-4CC3-8A5A-C0D8B74593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5B4531-BA28-4D2E-800C-1315567F84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D7EFD2-4D6F-4FC4-B4AB-76F00EDDC45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CB27C8-93DD-435D-9E8C-BB0291BB06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EF653D-4F50-4809-981A-7DB2A26853A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5A665-64CB-42B1-B1DD-5CE7FF9FE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61A8-FAC3-43DD-9E6F-D0AB870398D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D81BC-E0D9-4C65-93F6-58AAC6FC436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38F3D-F930-4102-89D2-689327A344F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23008-00F4-4440-854C-62832C88C5D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D1087-F16D-42AF-ABC3-1248833FF12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B67AE-54CC-4B42-877D-259D3D1A865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F14DF-4EC5-4FF3-A5D5-1D3411A9B0B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4AC68-7158-438D-A23B-E5AA817521D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76D9F-B7F4-4544-AED7-179D2179189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E848C-9EF4-4AB2-8857-ACCF6B8425F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A7C1A-2280-4DCE-BAD0-0D5B3D4AC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DD77-E6FD-499A-B9BA-53B08E956C8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92028-B3B9-4EF4-B0A4-477CB32916F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691DB6-5A83-494E-BAE0-410F8CCD98E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5C0E4E-8B73-4011-9A42-F3053F8F20D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A4B554-BE7A-4BAA-BE62-BDBCE0F37CA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E4511B-E5D7-4848-BAB8-BCB832DAFB8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7229E1-4368-44DF-AE37-D87704F5DBC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7299CF-0101-40F3-9D04-D76CBB67B91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B9C3C1-BCF8-41C0-944E-81F6B3E8136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91200D-D2AF-4CF0-B79A-361B4ED72D9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8F19A1-1588-4DFF-862F-A318A8309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0D83-5A9E-451F-A677-24FA9A9A0CE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EC8501-110F-4DDE-9F80-A724AFEFFDF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A3E00C-A722-4352-9DB6-D5F5B24DE22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073917-7F82-434E-9BE9-34FC5888CEF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BA14BD-3DB7-4E8D-8EC4-CCD02F97CE7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E42B02-5A85-4E48-8895-106BA581091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C79DC8-121B-41E0-8110-504E25FE403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5C274F-2A23-452A-A404-B555528898A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064574-8BA6-406E-8AB3-F91EB211064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BA1829-8087-464E-B46C-9F12B68EC25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71B49B-2568-4AD4-BD63-984157E6B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B935-FBC3-4733-B0B0-7718C1A6556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553075-2191-4F70-AB03-C608D9F628C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93EF9E-FABB-467D-ADA1-AC7316BDF9C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745FC9-3E46-4961-98D6-7B9E1683D5D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9822F3-A6BA-404C-9795-CF3680CBA52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3B5798-D281-4134-9AD5-CC77237D162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DEC66-4F30-42C0-986E-1AE2CDD4B46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18142-01FC-4804-AD90-EB3D3607D86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E19F9-2CD6-4CDA-A0FA-0DB31D48B66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AFE9E-2394-4562-B8BC-7DB10602FF3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35013-D69E-4473-809A-E5A7439D5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B138-15F0-4E68-8330-A62398CC2F9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D84FC-AD00-4BB3-9712-B4FCF25DDBF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4D20D-7D70-4AA5-9C4F-8174CAA59DD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5E907-5D70-4B69-9382-53CF5D4AD64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232D8-6D0C-4920-BA82-83873749725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F0C46-027F-430D-BBE6-2BA826BFD3C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84C98-7C8A-4FDB-9544-FE5DB5D0B25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33EC1-7E62-4E7B-988D-A6C79F2B7FA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6E8024-59EC-4D98-BB2E-92ED5D203F9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1A456F-F016-4536-8436-335E8343977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344F63-A6AC-4E3C-8382-0313BF798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88BA-A7ED-41A1-9DD0-B61620E0D6A7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D01F-D0CC-444A-AD6E-964D2D9A83A0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CCC2-08D1-467B-BA00-B1E4E00B7E1B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B093-478C-4404-A254-D4F705FB4D9A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782F-C803-42C7-B8CE-5EF371A1E7C9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AE79-3FB1-47F8-A893-0018566A75FC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3AF4-A1F6-443A-AAC4-36FF89819141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FFD5-614F-44B2-A053-D863DEEC7A0B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33AA-DF2E-4275-A5F1-5C48D41DA88C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04CD-7B31-4B32-B5F5-C37405C1E040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1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9A30-6B7F-4F2A-BB45-10424FD295B0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A376-43DF-4AEB-BDBE-8CEE28A2E29B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8171-3B35-4367-AC51-6AF75142072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ata Structures and Algorithms for Information Process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cture 7: Graph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0" name="Object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8BFF-9E05-4706-85B5-989D2791292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ph Terminology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Loop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edges that connect a vertex to itsel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Path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sequences of vertices p0, p1, … pm such that each adjacent pair of vertices are connected by an ed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Multiple Edg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two nodes may be connected by &gt;1 ed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7949-FDE5-437F-8E95-1BCE5E40F22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ph Terminology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Simple Graph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have no loops and no multiple ed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B0DB-DD3B-446F-BDE8-65DBF686EA1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ph Implementation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Adjacency Matri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quare grid of boolean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graph contains N vertices, then the grid contains N rows and N colum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two vertices numbered I and J, the element at row I and column J is true if there is an edge from I to J, otherwise fa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4C72-8DB9-4429-94F8-17C073B0656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djacency Matrix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380880" y="2590920"/>
            <a:ext cx="2438640" cy="2133360"/>
            <a:chOff x="380880" y="2590920"/>
            <a:chExt cx="2438640" cy="2133360"/>
          </a:xfrm>
        </p:grpSpPr>
        <p:sp>
          <p:nvSpPr>
            <p:cNvPr id="667" name="Oval 4"/>
            <p:cNvSpPr/>
            <p:nvPr/>
          </p:nvSpPr>
          <p:spPr>
            <a:xfrm>
              <a:off x="380880" y="32767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Oval 5"/>
            <p:cNvSpPr/>
            <p:nvPr/>
          </p:nvSpPr>
          <p:spPr>
            <a:xfrm>
              <a:off x="914400" y="42670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Oval 6"/>
            <p:cNvSpPr/>
            <p:nvPr/>
          </p:nvSpPr>
          <p:spPr>
            <a:xfrm>
              <a:off x="1143000" y="2590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Oval 7"/>
            <p:cNvSpPr/>
            <p:nvPr/>
          </p:nvSpPr>
          <p:spPr>
            <a:xfrm>
              <a:off x="2286000" y="41148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Oval 8"/>
            <p:cNvSpPr/>
            <p:nvPr/>
          </p:nvSpPr>
          <p:spPr>
            <a:xfrm>
              <a:off x="2362320" y="28065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2" name="AutoShape 9"/>
            <p:cNvCxnSpPr>
              <a:stCxn id="669" idx="6"/>
              <a:endCxn id="671" idx="2"/>
            </p:cNvCxnSpPr>
            <p:nvPr/>
          </p:nvCxnSpPr>
          <p:spPr>
            <a:xfrm>
              <a:off x="1599840" y="2819160"/>
              <a:ext cx="762840" cy="216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673" name="AutoShape 10"/>
            <p:cNvCxnSpPr>
              <a:stCxn id="667" idx="6"/>
              <a:endCxn id="670" idx="2"/>
            </p:cNvCxnSpPr>
            <p:nvPr/>
          </p:nvCxnSpPr>
          <p:spPr>
            <a:xfrm>
              <a:off x="838080" y="3505320"/>
              <a:ext cx="1448640" cy="838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674" name="AutoShape 11"/>
            <p:cNvCxnSpPr>
              <a:stCxn id="667" idx="7"/>
              <a:endCxn id="669" idx="3"/>
            </p:cNvCxnSpPr>
            <p:nvPr/>
          </p:nvCxnSpPr>
          <p:spPr>
            <a:xfrm flipV="1">
              <a:off x="771120" y="2981160"/>
              <a:ext cx="438840" cy="362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675" name="AutoShape 12"/>
            <p:cNvCxnSpPr>
              <a:stCxn id="668" idx="1"/>
              <a:endCxn id="667" idx="4"/>
            </p:cNvCxnSpPr>
            <p:nvPr/>
          </p:nvCxnSpPr>
          <p:spPr>
            <a:xfrm flipH="1" flipV="1">
              <a:off x="609120" y="3733200"/>
              <a:ext cx="372240" cy="6008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676" name="AutoShape 13"/>
            <p:cNvCxnSpPr>
              <a:stCxn id="670" idx="0"/>
              <a:endCxn id="671" idx="4"/>
            </p:cNvCxnSpPr>
            <p:nvPr/>
          </p:nvCxnSpPr>
          <p:spPr>
            <a:xfrm flipV="1">
              <a:off x="2514600" y="3263400"/>
              <a:ext cx="76680" cy="851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677" name="Text Box 14"/>
            <p:cNvSpPr/>
            <p:nvPr/>
          </p:nvSpPr>
          <p:spPr>
            <a:xfrm>
              <a:off x="1220760" y="2666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15"/>
            <p:cNvSpPr/>
            <p:nvPr/>
          </p:nvSpPr>
          <p:spPr>
            <a:xfrm>
              <a:off x="458640" y="3352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Text Box 16"/>
            <p:cNvSpPr/>
            <p:nvPr/>
          </p:nvSpPr>
          <p:spPr>
            <a:xfrm>
              <a:off x="2439720" y="2895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Text Box 17"/>
            <p:cNvSpPr/>
            <p:nvPr/>
          </p:nvSpPr>
          <p:spPr>
            <a:xfrm>
              <a:off x="992160" y="4343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Text Box 18"/>
            <p:cNvSpPr/>
            <p:nvPr/>
          </p:nvSpPr>
          <p:spPr>
            <a:xfrm>
              <a:off x="2363760" y="4191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Text Box 21"/>
          <p:cNvSpPr/>
          <p:nvPr/>
        </p:nvSpPr>
        <p:spPr>
          <a:xfrm>
            <a:off x="2971800" y="1676520"/>
            <a:ext cx="61722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22"/>
          <p:cNvSpPr/>
          <p:nvPr/>
        </p:nvSpPr>
        <p:spPr>
          <a:xfrm>
            <a:off x="4267080" y="2057400"/>
            <a:ext cx="4496040" cy="213372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8957-E04B-4685-8BFE-292AF95DA81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djacency Matrix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be implemented with a two-dimensional array, e.g.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boolean[][] adjMatrix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adjMatrix = new boolean[5][5]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A106-1280-4407-A4A0-0CECA6353D8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Edge List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phs can also be represented by creating a linked list for each vert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2" name="Group 4"/>
          <p:cNvGrpSpPr/>
          <p:nvPr/>
        </p:nvGrpSpPr>
        <p:grpSpPr>
          <a:xfrm>
            <a:off x="685800" y="3429000"/>
            <a:ext cx="2437920" cy="2133360"/>
            <a:chOff x="685800" y="3429000"/>
            <a:chExt cx="2437920" cy="2133360"/>
          </a:xfrm>
        </p:grpSpPr>
        <p:sp>
          <p:nvSpPr>
            <p:cNvPr id="693" name="Oval 5"/>
            <p:cNvSpPr/>
            <p:nvPr/>
          </p:nvSpPr>
          <p:spPr>
            <a:xfrm>
              <a:off x="685800" y="4114800"/>
              <a:ext cx="4568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Oval 6"/>
            <p:cNvSpPr/>
            <p:nvPr/>
          </p:nvSpPr>
          <p:spPr>
            <a:xfrm>
              <a:off x="1218960" y="5105160"/>
              <a:ext cx="4568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7"/>
            <p:cNvSpPr/>
            <p:nvPr/>
          </p:nvSpPr>
          <p:spPr>
            <a:xfrm>
              <a:off x="1447560" y="3429000"/>
              <a:ext cx="4568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Oval 8"/>
            <p:cNvSpPr/>
            <p:nvPr/>
          </p:nvSpPr>
          <p:spPr>
            <a:xfrm>
              <a:off x="2590560" y="4952880"/>
              <a:ext cx="4568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Oval 9"/>
            <p:cNvSpPr/>
            <p:nvPr/>
          </p:nvSpPr>
          <p:spPr>
            <a:xfrm>
              <a:off x="2666880" y="3644640"/>
              <a:ext cx="4568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8" name="AutoShape 10"/>
            <p:cNvCxnSpPr>
              <a:stCxn id="695" idx="6"/>
              <a:endCxn id="697" idx="2"/>
            </p:cNvCxnSpPr>
            <p:nvPr/>
          </p:nvCxnSpPr>
          <p:spPr>
            <a:xfrm>
              <a:off x="1904760" y="3657240"/>
              <a:ext cx="762480" cy="216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699" name="AutoShape 11"/>
            <p:cNvCxnSpPr>
              <a:stCxn id="693" idx="6"/>
              <a:endCxn id="696" idx="2"/>
            </p:cNvCxnSpPr>
            <p:nvPr/>
          </p:nvCxnSpPr>
          <p:spPr>
            <a:xfrm>
              <a:off x="1142280" y="4343400"/>
              <a:ext cx="1448280" cy="838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700" name="AutoShape 12"/>
            <p:cNvCxnSpPr>
              <a:stCxn id="693" idx="7"/>
              <a:endCxn id="695" idx="3"/>
            </p:cNvCxnSpPr>
            <p:nvPr/>
          </p:nvCxnSpPr>
          <p:spPr>
            <a:xfrm flipV="1">
              <a:off x="1076040" y="3819240"/>
              <a:ext cx="438480" cy="362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701" name="AutoShape 13"/>
            <p:cNvCxnSpPr>
              <a:stCxn id="694" idx="1"/>
              <a:endCxn id="693" idx="4"/>
            </p:cNvCxnSpPr>
            <p:nvPr/>
          </p:nvCxnSpPr>
          <p:spPr>
            <a:xfrm flipH="1" flipV="1">
              <a:off x="913320" y="4571280"/>
              <a:ext cx="371880" cy="6008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702" name="AutoShape 14"/>
            <p:cNvCxnSpPr>
              <a:stCxn id="696" idx="0"/>
              <a:endCxn id="697" idx="4"/>
            </p:cNvCxnSpPr>
            <p:nvPr/>
          </p:nvCxnSpPr>
          <p:spPr>
            <a:xfrm flipV="1">
              <a:off x="2818800" y="4101480"/>
              <a:ext cx="76680" cy="851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703" name="Text Box 15"/>
            <p:cNvSpPr/>
            <p:nvPr/>
          </p:nvSpPr>
          <p:spPr>
            <a:xfrm>
              <a:off x="1525320" y="3504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Text Box 16"/>
            <p:cNvSpPr/>
            <p:nvPr/>
          </p:nvSpPr>
          <p:spPr>
            <a:xfrm>
              <a:off x="763200" y="4190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Text Box 17"/>
            <p:cNvSpPr/>
            <p:nvPr/>
          </p:nvSpPr>
          <p:spPr>
            <a:xfrm>
              <a:off x="2744280" y="3733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18"/>
            <p:cNvSpPr/>
            <p:nvPr/>
          </p:nvSpPr>
          <p:spPr>
            <a:xfrm>
              <a:off x="1296720" y="5181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Text Box 19"/>
            <p:cNvSpPr/>
            <p:nvPr/>
          </p:nvSpPr>
          <p:spPr>
            <a:xfrm>
              <a:off x="2668320" y="5029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Group 46"/>
          <p:cNvGrpSpPr/>
          <p:nvPr/>
        </p:nvGrpSpPr>
        <p:grpSpPr>
          <a:xfrm>
            <a:off x="3962520" y="2971800"/>
            <a:ext cx="990360" cy="1143000"/>
            <a:chOff x="3962520" y="2971800"/>
            <a:chExt cx="990360" cy="1143000"/>
          </a:xfrm>
        </p:grpSpPr>
        <p:sp>
          <p:nvSpPr>
            <p:cNvPr id="709" name="Rectangle 20"/>
            <p:cNvSpPr/>
            <p:nvPr/>
          </p:nvSpPr>
          <p:spPr>
            <a:xfrm>
              <a:off x="3962520" y="3352680"/>
              <a:ext cx="99036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21"/>
            <p:cNvSpPr/>
            <p:nvPr/>
          </p:nvSpPr>
          <p:spPr>
            <a:xfrm>
              <a:off x="3962520" y="3733920"/>
              <a:ext cx="99036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22"/>
            <p:cNvSpPr/>
            <p:nvPr/>
          </p:nvSpPr>
          <p:spPr>
            <a:xfrm>
              <a:off x="4276440" y="33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Text Box 23"/>
            <p:cNvSpPr/>
            <p:nvPr/>
          </p:nvSpPr>
          <p:spPr>
            <a:xfrm>
              <a:off x="4123080" y="373392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u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Text Box 24"/>
            <p:cNvSpPr/>
            <p:nvPr/>
          </p:nvSpPr>
          <p:spPr>
            <a:xfrm>
              <a:off x="4276440" y="2971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Group 47"/>
          <p:cNvGrpSpPr/>
          <p:nvPr/>
        </p:nvGrpSpPr>
        <p:grpSpPr>
          <a:xfrm>
            <a:off x="5029200" y="2971800"/>
            <a:ext cx="990720" cy="1143000"/>
            <a:chOff x="5029200" y="2971800"/>
            <a:chExt cx="990720" cy="1143000"/>
          </a:xfrm>
        </p:grpSpPr>
        <p:sp>
          <p:nvSpPr>
            <p:cNvPr id="715" name="Rectangle 29"/>
            <p:cNvSpPr/>
            <p:nvPr/>
          </p:nvSpPr>
          <p:spPr>
            <a:xfrm>
              <a:off x="5029200" y="3352680"/>
              <a:ext cx="99072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30"/>
            <p:cNvSpPr/>
            <p:nvPr/>
          </p:nvSpPr>
          <p:spPr>
            <a:xfrm>
              <a:off x="5029200" y="3733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31"/>
            <p:cNvSpPr/>
            <p:nvPr/>
          </p:nvSpPr>
          <p:spPr>
            <a:xfrm>
              <a:off x="5343120" y="33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 Box 32"/>
            <p:cNvSpPr/>
            <p:nvPr/>
          </p:nvSpPr>
          <p:spPr>
            <a:xfrm>
              <a:off x="5189760" y="373392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u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33"/>
            <p:cNvSpPr/>
            <p:nvPr/>
          </p:nvSpPr>
          <p:spPr>
            <a:xfrm>
              <a:off x="5343120" y="2971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Group 48"/>
          <p:cNvGrpSpPr/>
          <p:nvPr/>
        </p:nvGrpSpPr>
        <p:grpSpPr>
          <a:xfrm>
            <a:off x="6095880" y="2971800"/>
            <a:ext cx="1630800" cy="2209680"/>
            <a:chOff x="6095880" y="2971800"/>
            <a:chExt cx="1630800" cy="2209680"/>
          </a:xfrm>
        </p:grpSpPr>
        <p:sp>
          <p:nvSpPr>
            <p:cNvPr id="721" name="Rectangle 34"/>
            <p:cNvSpPr/>
            <p:nvPr/>
          </p:nvSpPr>
          <p:spPr>
            <a:xfrm>
              <a:off x="6095880" y="3352680"/>
              <a:ext cx="99072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35"/>
            <p:cNvSpPr/>
            <p:nvPr/>
          </p:nvSpPr>
          <p:spPr>
            <a:xfrm>
              <a:off x="6095880" y="3733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36"/>
            <p:cNvSpPr/>
            <p:nvPr/>
          </p:nvSpPr>
          <p:spPr>
            <a:xfrm>
              <a:off x="6409800" y="33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38"/>
            <p:cNvSpPr/>
            <p:nvPr/>
          </p:nvSpPr>
          <p:spPr>
            <a:xfrm>
              <a:off x="6409800" y="2971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39"/>
            <p:cNvSpPr/>
            <p:nvPr/>
          </p:nvSpPr>
          <p:spPr>
            <a:xfrm>
              <a:off x="6095880" y="44197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40"/>
            <p:cNvSpPr/>
            <p:nvPr/>
          </p:nvSpPr>
          <p:spPr>
            <a:xfrm>
              <a:off x="6095880" y="480060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41"/>
            <p:cNvSpPr/>
            <p:nvPr/>
          </p:nvSpPr>
          <p:spPr>
            <a:xfrm>
              <a:off x="6409800" y="4419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42"/>
            <p:cNvSpPr/>
            <p:nvPr/>
          </p:nvSpPr>
          <p:spPr>
            <a:xfrm>
              <a:off x="6256800" y="480060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u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43"/>
            <p:cNvSpPr/>
            <p:nvPr/>
          </p:nvSpPr>
          <p:spPr>
            <a:xfrm>
              <a:off x="6553080" y="38862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Text Box 44"/>
            <p:cNvSpPr/>
            <p:nvPr/>
          </p:nvSpPr>
          <p:spPr>
            <a:xfrm>
              <a:off x="7305120" y="3232080"/>
              <a:ext cx="421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Text Box 45"/>
          <p:cNvSpPr/>
          <p:nvPr/>
        </p:nvSpPr>
        <p:spPr>
          <a:xfrm>
            <a:off x="4848840" y="5257800"/>
            <a:ext cx="30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For each entry J in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number I, there is an 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from I to J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8FB5-C6A0-4979-B492-070CDA93B7E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Edge Set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a previously-defined set ADT to hold the integers corresponding to target vertices from a given vertex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IntSet[] edges = new IntSet[5]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Quiz: Draw a Red Black Tree implementation of IntSe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1591-0CAD-42FE-8746-AEA58B7663F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Worst-Case Analysi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ing or Removing Ed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acency matrix: small consta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ge list: O(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ge set: O(logN) if B-Tree is u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ing if an Edge is Pres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acency matrix: small consta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ge list: O(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ge set: O(logN) if B-Tree or Red Black tree is u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F0DF-FDD3-4B32-A834-B69B89F0CBE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Worst-Case Analysi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erating through a Vertex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Ed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acency matrix: O(N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ge list: O(E) if there are E ed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ge set: O(E) if a B-Tree or Red Black tree implementation is u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In a dense graph, E will be at most 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7D7A-9F04-44E1-AD6B-28A66AA87AF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hoice of Implement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ch operations are more frequ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ther a good set ADT is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erage number of edges per verte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a matrix is wasteful for sparse graphs,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 space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8614-2B38-45BD-8933-B2725CC6EF7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oday</a:t>
            </a:r>
            <a:r>
              <a:rPr b="0" lang="ja-JP" sz="4400" spc="-1" strike="noStrike">
                <a:solidFill>
                  <a:srgbClr val="3333cc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Topic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ph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irected grap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ed grap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ph Travers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th-first (recursive vs. stack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eadth-first (queu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2284-54BC-4F63-A075-8F32091496F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rogramming Exampl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ple, directed,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label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Grap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generality, labels will be represented as references to Java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Object cla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513C-3228-4417-B94B-F37CB2E1D19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nstance Variabl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public class Graph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private boolean[][] edges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private Object[] labels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289C-6568-4678-9715-46E96ED7C5B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onstructor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public Graph (int n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edges = new boolean[n][n]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labels = new Object[n]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2750-F419-44B3-9E2D-E34F24084B5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ddEdge Method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public void addEdge(int s, int t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edges[s][t] = true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139D-167E-4F61-923E-9BEC527B6FD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etLabel Method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public Object getLabel(int v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return labels[v]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E84C-07D1-4154-A949-71D53591B46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sEdge Method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public boolean isEdge(int s, int t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return edges[s][t]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09DF-45C8-41D3-A3C0-F60768F220D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neighbors Method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public int[] neighbors(int v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int i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int count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int [] answer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count = 0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for (i=0; i&lt;labels.length; i++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if (edges[v][i]) count++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581F-5A8E-4B2D-B3D8-657D4D4E0B7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neighbors Method (cont.)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answer = new int[count]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count = 0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for (I=0; I&lt;labels.length; I++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if (edges[v][I]) 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   answer[count++] = I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return answer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E384-29B9-428E-9391-9B0CEA09EA3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emoveEdge Method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public void removeEdge(int s, int t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edges[s][t] = false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C231-C264-4B53-93F7-BC183092651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etLabel, size Method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public void setLabel(int v, Object n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labels[v] = n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public int size(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return labels.length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2420-5C5A-4D1E-82E3-F94BC18DB01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ph Definition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des and links between th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linked in any patter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unlike tree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Vertex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a node in the grap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Ed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a connection between no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BB16-64E6-4F93-8BC2-A1A97A5D893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ph Traversal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rt at a particular vert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d all vertices that can be reached from the start by following every possible path (set of edge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: What could go wrong? (Hint: how do graphs differ from trees?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: We have to be careful about detecting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cyc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F9D4-3C7A-4BEE-8E4B-EB830A8397A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ph Traversal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ycle detection can be implemented with an array of boolean values representing 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ading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n the verti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vertex is shaded once it is visited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boolean[] marked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marked = new boolean[g.size()]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A2CD-20B1-42D8-9167-FC0052B3E09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epth-First Traversal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a stack (or recursion) to store set of vertices to be visi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om a given vertex, visit neighbors I+1 … N onl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raversing all possible edges from neighbor I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9C9D-08A0-4B4C-9577-D8A04D83649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epth-First Traversal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2209680" y="342900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5867280" y="342900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Oval 6"/>
          <p:cNvSpPr/>
          <p:nvPr/>
        </p:nvSpPr>
        <p:spPr>
          <a:xfrm>
            <a:off x="3124080" y="251460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Oval 7"/>
          <p:cNvSpPr/>
          <p:nvPr/>
        </p:nvSpPr>
        <p:spPr>
          <a:xfrm>
            <a:off x="4114800" y="175248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Oval 8"/>
          <p:cNvSpPr/>
          <p:nvPr/>
        </p:nvSpPr>
        <p:spPr>
          <a:xfrm>
            <a:off x="3962520" y="342900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Oval 9"/>
          <p:cNvSpPr/>
          <p:nvPr/>
        </p:nvSpPr>
        <p:spPr>
          <a:xfrm>
            <a:off x="4952880" y="281952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Oval 10"/>
          <p:cNvSpPr/>
          <p:nvPr/>
        </p:nvSpPr>
        <p:spPr>
          <a:xfrm>
            <a:off x="5410080" y="198108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AutoShape 12"/>
          <p:cNvCxnSpPr>
            <a:stCxn id="809" idx="2"/>
            <a:endCxn id="806" idx="6"/>
          </p:cNvCxnSpPr>
          <p:nvPr/>
        </p:nvCxnSpPr>
        <p:spPr>
          <a:xfrm flipH="1" flipV="1">
            <a:off x="4571640" y="1980360"/>
            <a:ext cx="83880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11" name="AutoShape 13"/>
          <p:cNvCxnSpPr>
            <a:endCxn id="805" idx="7"/>
          </p:cNvCxnSpPr>
          <p:nvPr/>
        </p:nvCxnSpPr>
        <p:spPr>
          <a:xfrm flipH="1">
            <a:off x="3513960" y="1980720"/>
            <a:ext cx="600840" cy="600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12" name="AutoShape 14"/>
          <p:cNvCxnSpPr>
            <a:endCxn id="805" idx="3"/>
          </p:cNvCxnSpPr>
          <p:nvPr/>
        </p:nvCxnSpPr>
        <p:spPr>
          <a:xfrm flipV="1">
            <a:off x="2581200" y="2904480"/>
            <a:ext cx="610560" cy="600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13" name="AutoShape 15"/>
          <p:cNvCxnSpPr>
            <a:endCxn id="803" idx="6"/>
          </p:cNvCxnSpPr>
          <p:nvPr/>
        </p:nvCxnSpPr>
        <p:spPr>
          <a:xfrm flipH="1">
            <a:off x="2666520" y="3657240"/>
            <a:ext cx="12866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14" name="AutoShape 16"/>
          <p:cNvCxnSpPr>
            <a:endCxn id="804" idx="2"/>
          </p:cNvCxnSpPr>
          <p:nvPr/>
        </p:nvCxnSpPr>
        <p:spPr>
          <a:xfrm>
            <a:off x="4410000" y="3657240"/>
            <a:ext cx="1458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15" name="AutoShape 17"/>
          <p:cNvCxnSpPr>
            <a:endCxn id="808" idx="1"/>
          </p:cNvCxnSpPr>
          <p:nvPr/>
        </p:nvCxnSpPr>
        <p:spPr>
          <a:xfrm>
            <a:off x="4486320" y="2133720"/>
            <a:ext cx="534240" cy="75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16" name="AutoShape 18"/>
          <p:cNvCxnSpPr>
            <a:endCxn id="806" idx="4"/>
          </p:cNvCxnSpPr>
          <p:nvPr/>
        </p:nvCxnSpPr>
        <p:spPr>
          <a:xfrm flipV="1">
            <a:off x="4181400" y="2208960"/>
            <a:ext cx="16272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17" name="AutoShape 19"/>
          <p:cNvCxnSpPr>
            <a:endCxn id="807" idx="1"/>
          </p:cNvCxnSpPr>
          <p:nvPr/>
        </p:nvCxnSpPr>
        <p:spPr>
          <a:xfrm>
            <a:off x="3495600" y="2895120"/>
            <a:ext cx="534240" cy="600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18" name="Text Box 20"/>
          <p:cNvSpPr/>
          <p:nvPr/>
        </p:nvSpPr>
        <p:spPr>
          <a:xfrm>
            <a:off x="4200120" y="1828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1"/>
          <p:cNvSpPr/>
          <p:nvPr/>
        </p:nvSpPr>
        <p:spPr>
          <a:xfrm>
            <a:off x="3209400" y="2590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2"/>
          <p:cNvSpPr/>
          <p:nvPr/>
        </p:nvSpPr>
        <p:spPr>
          <a:xfrm>
            <a:off x="5495400" y="205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3"/>
          <p:cNvSpPr/>
          <p:nvPr/>
        </p:nvSpPr>
        <p:spPr>
          <a:xfrm>
            <a:off x="229500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4"/>
          <p:cNvSpPr/>
          <p:nvPr/>
        </p:nvSpPr>
        <p:spPr>
          <a:xfrm>
            <a:off x="404784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5"/>
          <p:cNvSpPr/>
          <p:nvPr/>
        </p:nvSpPr>
        <p:spPr>
          <a:xfrm>
            <a:off x="5038200" y="289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6"/>
          <p:cNvSpPr/>
          <p:nvPr/>
        </p:nvSpPr>
        <p:spPr>
          <a:xfrm>
            <a:off x="595260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Oval 27"/>
          <p:cNvSpPr/>
          <p:nvPr/>
        </p:nvSpPr>
        <p:spPr>
          <a:xfrm>
            <a:off x="4038480" y="1676520"/>
            <a:ext cx="60984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Oval 28"/>
          <p:cNvSpPr/>
          <p:nvPr/>
        </p:nvSpPr>
        <p:spPr>
          <a:xfrm>
            <a:off x="3048120" y="2438280"/>
            <a:ext cx="609480" cy="609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Oval 29"/>
          <p:cNvSpPr/>
          <p:nvPr/>
        </p:nvSpPr>
        <p:spPr>
          <a:xfrm>
            <a:off x="3886200" y="3352680"/>
            <a:ext cx="609480" cy="609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Oval 30"/>
          <p:cNvSpPr/>
          <p:nvPr/>
        </p:nvSpPr>
        <p:spPr>
          <a:xfrm>
            <a:off x="2133720" y="3352680"/>
            <a:ext cx="609480" cy="609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Oval 31"/>
          <p:cNvSpPr/>
          <p:nvPr/>
        </p:nvSpPr>
        <p:spPr>
          <a:xfrm>
            <a:off x="5791320" y="3352680"/>
            <a:ext cx="609480" cy="609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Oval 32"/>
          <p:cNvSpPr/>
          <p:nvPr/>
        </p:nvSpPr>
        <p:spPr>
          <a:xfrm>
            <a:off x="4876920" y="2743200"/>
            <a:ext cx="60948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AutoShape 33"/>
          <p:cNvCxnSpPr/>
          <p:nvPr/>
        </p:nvCxnSpPr>
        <p:spPr>
          <a:xfrm flipH="1">
            <a:off x="3504600" y="1980720"/>
            <a:ext cx="600840" cy="60084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</p:cxnSp>
      <p:cxnSp>
        <p:nvCxnSpPr>
          <p:cNvPr id="832" name="AutoShape 35"/>
          <p:cNvCxnSpPr/>
          <p:nvPr/>
        </p:nvCxnSpPr>
        <p:spPr>
          <a:xfrm>
            <a:off x="3504960" y="2895120"/>
            <a:ext cx="533880" cy="60084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</p:cxnSp>
      <p:cxnSp>
        <p:nvCxnSpPr>
          <p:cNvPr id="833" name="AutoShape 36"/>
          <p:cNvCxnSpPr/>
          <p:nvPr/>
        </p:nvCxnSpPr>
        <p:spPr>
          <a:xfrm flipH="1">
            <a:off x="2666520" y="3657240"/>
            <a:ext cx="1286640" cy="108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</p:cxnSp>
      <p:cxnSp>
        <p:nvCxnSpPr>
          <p:cNvPr id="834" name="AutoShape 37"/>
          <p:cNvCxnSpPr/>
          <p:nvPr/>
        </p:nvCxnSpPr>
        <p:spPr>
          <a:xfrm>
            <a:off x="4419720" y="3657240"/>
            <a:ext cx="1458000" cy="108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</p:cxnSp>
      <p:cxnSp>
        <p:nvCxnSpPr>
          <p:cNvPr id="835" name="AutoShape 38"/>
          <p:cNvCxnSpPr/>
          <p:nvPr/>
        </p:nvCxnSpPr>
        <p:spPr>
          <a:xfrm>
            <a:off x="4495680" y="2133720"/>
            <a:ext cx="534240" cy="75312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2135-866C-4ED8-9829-7403143953B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readth-First Traversal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a queue to store set of vertices to be visi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sit all neighbor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visiting any of their neighb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Slide Number Placeholder 2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9930-1B8A-43F2-84BB-0C26C473DF8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readth-First Traversal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43" name="Oval 69"/>
          <p:cNvSpPr/>
          <p:nvPr/>
        </p:nvSpPr>
        <p:spPr>
          <a:xfrm>
            <a:off x="2209680" y="342900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70"/>
          <p:cNvSpPr/>
          <p:nvPr/>
        </p:nvSpPr>
        <p:spPr>
          <a:xfrm>
            <a:off x="5867280" y="342900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71"/>
          <p:cNvSpPr/>
          <p:nvPr/>
        </p:nvSpPr>
        <p:spPr>
          <a:xfrm>
            <a:off x="3124080" y="251460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72"/>
          <p:cNvSpPr/>
          <p:nvPr/>
        </p:nvSpPr>
        <p:spPr>
          <a:xfrm>
            <a:off x="4114800" y="175248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73"/>
          <p:cNvSpPr/>
          <p:nvPr/>
        </p:nvSpPr>
        <p:spPr>
          <a:xfrm>
            <a:off x="3962520" y="342900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74"/>
          <p:cNvSpPr/>
          <p:nvPr/>
        </p:nvSpPr>
        <p:spPr>
          <a:xfrm>
            <a:off x="4952880" y="281952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75"/>
          <p:cNvSpPr/>
          <p:nvPr/>
        </p:nvSpPr>
        <p:spPr>
          <a:xfrm>
            <a:off x="5410080" y="198108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0" name="AutoShape 76"/>
          <p:cNvCxnSpPr>
            <a:stCxn id="849" idx="2"/>
            <a:endCxn id="846" idx="6"/>
          </p:cNvCxnSpPr>
          <p:nvPr/>
        </p:nvCxnSpPr>
        <p:spPr>
          <a:xfrm flipH="1" flipV="1">
            <a:off x="4571640" y="1980360"/>
            <a:ext cx="83880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51" name="AutoShape 77"/>
          <p:cNvCxnSpPr>
            <a:endCxn id="845" idx="7"/>
          </p:cNvCxnSpPr>
          <p:nvPr/>
        </p:nvCxnSpPr>
        <p:spPr>
          <a:xfrm flipH="1">
            <a:off x="3513960" y="1980720"/>
            <a:ext cx="600840" cy="600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52" name="AutoShape 78"/>
          <p:cNvCxnSpPr>
            <a:endCxn id="845" idx="3"/>
          </p:cNvCxnSpPr>
          <p:nvPr/>
        </p:nvCxnSpPr>
        <p:spPr>
          <a:xfrm flipV="1">
            <a:off x="2581200" y="2904480"/>
            <a:ext cx="610560" cy="600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53" name="AutoShape 79"/>
          <p:cNvCxnSpPr>
            <a:endCxn id="843" idx="6"/>
          </p:cNvCxnSpPr>
          <p:nvPr/>
        </p:nvCxnSpPr>
        <p:spPr>
          <a:xfrm flipH="1">
            <a:off x="2666520" y="3657240"/>
            <a:ext cx="12866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54" name="AutoShape 80"/>
          <p:cNvCxnSpPr>
            <a:endCxn id="844" idx="2"/>
          </p:cNvCxnSpPr>
          <p:nvPr/>
        </p:nvCxnSpPr>
        <p:spPr>
          <a:xfrm>
            <a:off x="4410000" y="3657240"/>
            <a:ext cx="1458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55" name="AutoShape 81"/>
          <p:cNvCxnSpPr>
            <a:endCxn id="848" idx="1"/>
          </p:cNvCxnSpPr>
          <p:nvPr/>
        </p:nvCxnSpPr>
        <p:spPr>
          <a:xfrm>
            <a:off x="4486320" y="2133720"/>
            <a:ext cx="534240" cy="75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56" name="AutoShape 82"/>
          <p:cNvCxnSpPr>
            <a:endCxn id="846" idx="4"/>
          </p:cNvCxnSpPr>
          <p:nvPr/>
        </p:nvCxnSpPr>
        <p:spPr>
          <a:xfrm flipV="1">
            <a:off x="4181400" y="2208960"/>
            <a:ext cx="16272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57" name="AutoShape 83"/>
          <p:cNvCxnSpPr>
            <a:endCxn id="847" idx="1"/>
          </p:cNvCxnSpPr>
          <p:nvPr/>
        </p:nvCxnSpPr>
        <p:spPr>
          <a:xfrm>
            <a:off x="3495600" y="2895120"/>
            <a:ext cx="534240" cy="600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58" name="Text Box 84"/>
          <p:cNvSpPr/>
          <p:nvPr/>
        </p:nvSpPr>
        <p:spPr>
          <a:xfrm>
            <a:off x="4200120" y="1828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85"/>
          <p:cNvSpPr/>
          <p:nvPr/>
        </p:nvSpPr>
        <p:spPr>
          <a:xfrm>
            <a:off x="3209400" y="2590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86"/>
          <p:cNvSpPr/>
          <p:nvPr/>
        </p:nvSpPr>
        <p:spPr>
          <a:xfrm>
            <a:off x="5495400" y="205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87"/>
          <p:cNvSpPr/>
          <p:nvPr/>
        </p:nvSpPr>
        <p:spPr>
          <a:xfrm>
            <a:off x="229500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88"/>
          <p:cNvSpPr/>
          <p:nvPr/>
        </p:nvSpPr>
        <p:spPr>
          <a:xfrm>
            <a:off x="404784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89"/>
          <p:cNvSpPr/>
          <p:nvPr/>
        </p:nvSpPr>
        <p:spPr>
          <a:xfrm>
            <a:off x="5038200" y="289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90"/>
          <p:cNvSpPr/>
          <p:nvPr/>
        </p:nvSpPr>
        <p:spPr>
          <a:xfrm>
            <a:off x="595260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Oval 91"/>
          <p:cNvSpPr/>
          <p:nvPr/>
        </p:nvSpPr>
        <p:spPr>
          <a:xfrm>
            <a:off x="4038480" y="1676520"/>
            <a:ext cx="60984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92"/>
          <p:cNvSpPr/>
          <p:nvPr/>
        </p:nvSpPr>
        <p:spPr>
          <a:xfrm>
            <a:off x="3048120" y="2438280"/>
            <a:ext cx="609480" cy="609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93"/>
          <p:cNvSpPr/>
          <p:nvPr/>
        </p:nvSpPr>
        <p:spPr>
          <a:xfrm>
            <a:off x="3886200" y="3352680"/>
            <a:ext cx="609480" cy="609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94"/>
          <p:cNvSpPr/>
          <p:nvPr/>
        </p:nvSpPr>
        <p:spPr>
          <a:xfrm>
            <a:off x="2133720" y="3352680"/>
            <a:ext cx="609480" cy="609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95"/>
          <p:cNvSpPr/>
          <p:nvPr/>
        </p:nvSpPr>
        <p:spPr>
          <a:xfrm>
            <a:off x="5791320" y="3352680"/>
            <a:ext cx="609480" cy="609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Oval 96"/>
          <p:cNvSpPr/>
          <p:nvPr/>
        </p:nvSpPr>
        <p:spPr>
          <a:xfrm>
            <a:off x="4876920" y="2743200"/>
            <a:ext cx="60948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1" name="AutoShape 97"/>
          <p:cNvCxnSpPr/>
          <p:nvPr/>
        </p:nvCxnSpPr>
        <p:spPr>
          <a:xfrm flipH="1">
            <a:off x="3504600" y="1980720"/>
            <a:ext cx="600840" cy="60084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</p:cxnSp>
      <p:cxnSp>
        <p:nvCxnSpPr>
          <p:cNvPr id="872" name="AutoShape 98"/>
          <p:cNvCxnSpPr/>
          <p:nvPr/>
        </p:nvCxnSpPr>
        <p:spPr>
          <a:xfrm>
            <a:off x="3504960" y="2895120"/>
            <a:ext cx="533880" cy="60084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</p:cxnSp>
      <p:cxnSp>
        <p:nvCxnSpPr>
          <p:cNvPr id="873" name="AutoShape 99"/>
          <p:cNvCxnSpPr/>
          <p:nvPr/>
        </p:nvCxnSpPr>
        <p:spPr>
          <a:xfrm flipH="1">
            <a:off x="2666520" y="3657240"/>
            <a:ext cx="1286640" cy="108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</p:cxnSp>
      <p:cxnSp>
        <p:nvCxnSpPr>
          <p:cNvPr id="874" name="AutoShape 100"/>
          <p:cNvCxnSpPr/>
          <p:nvPr/>
        </p:nvCxnSpPr>
        <p:spPr>
          <a:xfrm>
            <a:off x="4419720" y="3657240"/>
            <a:ext cx="1458000" cy="108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</p:cxnSp>
      <p:cxnSp>
        <p:nvCxnSpPr>
          <p:cNvPr id="875" name="AutoShape 101"/>
          <p:cNvCxnSpPr/>
          <p:nvPr/>
        </p:nvCxnSpPr>
        <p:spPr>
          <a:xfrm>
            <a:off x="4495680" y="2133720"/>
            <a:ext cx="534240" cy="75312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C227-BFC3-4DE0-BBA3-315A2051A01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epth-First Traversal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public static void dfPrint (Graph g, int start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boolean[] marked = 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   new boolean[g.size()]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dfRecurse(g, start, marked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EB85-BE63-46C1-B145-BD4712F6547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epth-First Exampl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public static void dfRecurse (Graph g, int v, boolean[] marked) {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int [] next = g.neighbors(v)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int i, nextNeighbor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marked[v] = true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System.out.println(g.getLabel(v));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continued on next slide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235D-FCD5-44FE-90AC-84CBB94CD10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epth-First Exampl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for (i=0;i&lt;next.length;i++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   nextNeighbor = next[i]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   if (!marked[nextNeighbor])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      depthFirstRecurse(g, nextNeighbor, marked)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72B2-5352-4F23-B78F-58A6B0EEEE0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readth-First Implement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s a queue of vertex numb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tart vertex is processed, marked, placed in the que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eat until queue is empt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ove a vertex v from the que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ach unmarked neighbor u of v: process u, mark u, place u in the que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8A5B-83AF-439D-A092-5CAC2E57D6E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Undirected Graph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tices drawn with circ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ges drawn with l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3" name="Group 33"/>
          <p:cNvGrpSpPr/>
          <p:nvPr/>
        </p:nvGrpSpPr>
        <p:grpSpPr>
          <a:xfrm>
            <a:off x="2286000" y="3111480"/>
            <a:ext cx="3111480" cy="2374920"/>
            <a:chOff x="2286000" y="3111480"/>
            <a:chExt cx="3111480" cy="2374920"/>
          </a:xfrm>
        </p:grpSpPr>
        <p:sp>
          <p:nvSpPr>
            <p:cNvPr id="534" name="Oval 4"/>
            <p:cNvSpPr/>
            <p:nvPr/>
          </p:nvSpPr>
          <p:spPr>
            <a:xfrm>
              <a:off x="2286000" y="40384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5"/>
            <p:cNvSpPr/>
            <p:nvPr/>
          </p:nvSpPr>
          <p:spPr>
            <a:xfrm>
              <a:off x="2819520" y="50292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Oval 6"/>
            <p:cNvSpPr/>
            <p:nvPr/>
          </p:nvSpPr>
          <p:spPr>
            <a:xfrm>
              <a:off x="3048120" y="33526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7"/>
            <p:cNvSpPr/>
            <p:nvPr/>
          </p:nvSpPr>
          <p:spPr>
            <a:xfrm>
              <a:off x="4191120" y="4876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8"/>
            <p:cNvSpPr/>
            <p:nvPr/>
          </p:nvSpPr>
          <p:spPr>
            <a:xfrm>
              <a:off x="4267080" y="35812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10"/>
            <p:cNvSpPr/>
            <p:nvPr/>
          </p:nvSpPr>
          <p:spPr>
            <a:xfrm>
              <a:off x="2590920" y="44197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11"/>
            <p:cNvSpPr/>
            <p:nvPr/>
          </p:nvSpPr>
          <p:spPr>
            <a:xfrm flipV="1">
              <a:off x="3200400" y="5181480"/>
              <a:ext cx="9907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12"/>
            <p:cNvSpPr/>
            <p:nvPr/>
          </p:nvSpPr>
          <p:spPr>
            <a:xfrm flipV="1">
              <a:off x="4419720" y="4038120"/>
              <a:ext cx="7596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13"/>
            <p:cNvSpPr/>
            <p:nvPr/>
          </p:nvSpPr>
          <p:spPr>
            <a:xfrm flipH="1">
              <a:off x="2742840" y="3886200"/>
              <a:ext cx="15238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4"/>
            <p:cNvSpPr/>
            <p:nvPr/>
          </p:nvSpPr>
          <p:spPr>
            <a:xfrm flipV="1">
              <a:off x="2666880" y="3733920"/>
              <a:ext cx="4572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17"/>
            <p:cNvSpPr/>
            <p:nvPr/>
          </p:nvSpPr>
          <p:spPr>
            <a:xfrm>
              <a:off x="3429000" y="3111480"/>
              <a:ext cx="1968480" cy="1917720"/>
            </a:xfrm>
            <a:custGeom>
              <a:avLst/>
              <a:gdLst>
                <a:gd name="textAreaLeft" fmla="*/ 0 w 1968480"/>
                <a:gd name="textAreaRight" fmla="*/ 1968840 w 1968480"/>
                <a:gd name="textAreaTop" fmla="*/ 0 h 1917720"/>
                <a:gd name="textAreaBottom" fmla="*/ 1918080 h 1917720"/>
              </a:gdLst>
              <a:ahLst/>
              <a:rect l="textAreaLeft" t="textAreaTop" r="textAreaRight" b="textAreaBottom"/>
              <a:pathLst>
                <a:path w="1240" h="1208">
                  <a:moveTo>
                    <a:pt x="0" y="200"/>
                  </a:moveTo>
                  <a:cubicBezTo>
                    <a:pt x="136" y="108"/>
                    <a:pt x="272" y="16"/>
                    <a:pt x="432" y="8"/>
                  </a:cubicBezTo>
                  <a:cubicBezTo>
                    <a:pt x="592" y="0"/>
                    <a:pt x="832" y="40"/>
                    <a:pt x="960" y="152"/>
                  </a:cubicBezTo>
                  <a:cubicBezTo>
                    <a:pt x="1088" y="264"/>
                    <a:pt x="1240" y="504"/>
                    <a:pt x="1200" y="680"/>
                  </a:cubicBezTo>
                  <a:cubicBezTo>
                    <a:pt x="1160" y="856"/>
                    <a:pt x="940" y="1032"/>
                    <a:pt x="720" y="120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Group 31"/>
          <p:cNvGrpSpPr/>
          <p:nvPr/>
        </p:nvGrpSpPr>
        <p:grpSpPr>
          <a:xfrm>
            <a:off x="2304360" y="3003480"/>
            <a:ext cx="5752800" cy="2470320"/>
            <a:chOff x="2304360" y="3003480"/>
            <a:chExt cx="5752800" cy="2470320"/>
          </a:xfrm>
        </p:grpSpPr>
        <p:sp>
          <p:nvSpPr>
            <p:cNvPr id="546" name="Text Box 18"/>
            <p:cNvSpPr/>
            <p:nvPr/>
          </p:nvSpPr>
          <p:spPr>
            <a:xfrm>
              <a:off x="3066480" y="34290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Text Box 19"/>
            <p:cNvSpPr/>
            <p:nvPr/>
          </p:nvSpPr>
          <p:spPr>
            <a:xfrm>
              <a:off x="4209480" y="49528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20"/>
            <p:cNvSpPr/>
            <p:nvPr/>
          </p:nvSpPr>
          <p:spPr>
            <a:xfrm>
              <a:off x="2837880" y="51055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21"/>
            <p:cNvSpPr/>
            <p:nvPr/>
          </p:nvSpPr>
          <p:spPr>
            <a:xfrm>
              <a:off x="4285440" y="36576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 Box 22"/>
            <p:cNvSpPr/>
            <p:nvPr/>
          </p:nvSpPr>
          <p:spPr>
            <a:xfrm>
              <a:off x="2304360" y="41148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23"/>
            <p:cNvSpPr/>
            <p:nvPr/>
          </p:nvSpPr>
          <p:spPr>
            <a:xfrm>
              <a:off x="5707800" y="3003480"/>
              <a:ext cx="23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Vertices are label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32"/>
          <p:cNvGrpSpPr/>
          <p:nvPr/>
        </p:nvGrpSpPr>
        <p:grpSpPr>
          <a:xfrm>
            <a:off x="2298600" y="3505320"/>
            <a:ext cx="5555880" cy="2197080"/>
            <a:chOff x="2298600" y="3505320"/>
            <a:chExt cx="5555880" cy="2197080"/>
          </a:xfrm>
        </p:grpSpPr>
        <p:sp>
          <p:nvSpPr>
            <p:cNvPr id="553" name="Text Box 24"/>
            <p:cNvSpPr/>
            <p:nvPr/>
          </p:nvSpPr>
          <p:spPr>
            <a:xfrm>
              <a:off x="5710680" y="3505320"/>
              <a:ext cx="214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Edges are label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25"/>
            <p:cNvSpPr/>
            <p:nvPr/>
          </p:nvSpPr>
          <p:spPr>
            <a:xfrm>
              <a:off x="3593880" y="533412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26"/>
            <p:cNvSpPr/>
            <p:nvPr/>
          </p:nvSpPr>
          <p:spPr>
            <a:xfrm>
              <a:off x="2298600" y="464832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27"/>
            <p:cNvSpPr/>
            <p:nvPr/>
          </p:nvSpPr>
          <p:spPr>
            <a:xfrm>
              <a:off x="2450880" y="350532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28"/>
            <p:cNvSpPr/>
            <p:nvPr/>
          </p:nvSpPr>
          <p:spPr>
            <a:xfrm>
              <a:off x="3136680" y="41148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29"/>
            <p:cNvSpPr/>
            <p:nvPr/>
          </p:nvSpPr>
          <p:spPr>
            <a:xfrm>
              <a:off x="3975120" y="4267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30"/>
            <p:cNvSpPr/>
            <p:nvPr/>
          </p:nvSpPr>
          <p:spPr>
            <a:xfrm>
              <a:off x="5270400" y="43434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Text Box 35"/>
          <p:cNvSpPr/>
          <p:nvPr/>
        </p:nvSpPr>
        <p:spPr>
          <a:xfrm>
            <a:off x="5237640" y="5334120"/>
            <a:ext cx="33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Visual Layout Doesn</a:t>
            </a:r>
            <a:r>
              <a:rPr b="0" lang="ja-JP" sz="1800" spc="-1" strike="noStrike">
                <a:solidFill>
                  <a:srgbClr val="ff0066"/>
                </a:solidFill>
                <a:latin typeface="Verdana"/>
              </a:rPr>
              <a:t>’</a:t>
            </a: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t Matt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FS Without Recurs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FS(G,v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empty stack 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each vertex u, set visited[u] :=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sh v onto 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(S is not empt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 := pop 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(not visited[u]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sited[u] := true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each unvisited neighbor w of 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sh S, w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5AD8-0DF5-4E34-BEFA-7AFEE9470E5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0CCC-58EA-4882-9F32-A6F2F6BCBA8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untime complexity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FS or BF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If adjacency matrix is used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n + n^2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n^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need to visit n vertices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n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ach vertex visited, we need t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n edges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n^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If adjacency list is use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n + e) where e is the number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edges in the graph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 &lt;= n^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343B-ECA2-4AF1-8B22-F380FDA1E14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Undirected Graph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undirected grap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 finite set of vertices along with a finite set of edges. The empty graph is an empty set of vertices and an empty set of edg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edge connects two verti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order of the connection is unimpor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3146-78E7-4F30-94ED-CF2D9FD4E70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phing a Search Spac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ree coins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game (p. 69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use green = heads, red = tail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witch from green, red, green to red, green, 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may flip the middle coin any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d coins can flip only when the other two coins match each o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9" name="Group 13"/>
          <p:cNvGrpSpPr/>
          <p:nvPr/>
        </p:nvGrpSpPr>
        <p:grpSpPr>
          <a:xfrm>
            <a:off x="4419720" y="3276720"/>
            <a:ext cx="3733560" cy="457200"/>
            <a:chOff x="4419720" y="3276720"/>
            <a:chExt cx="3733560" cy="457200"/>
          </a:xfrm>
        </p:grpSpPr>
        <p:sp>
          <p:nvSpPr>
            <p:cNvPr id="570" name="Oval 4"/>
            <p:cNvSpPr/>
            <p:nvPr/>
          </p:nvSpPr>
          <p:spPr>
            <a:xfrm>
              <a:off x="4572000" y="3353040"/>
              <a:ext cx="304920" cy="304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Oval 5"/>
            <p:cNvSpPr/>
            <p:nvPr/>
          </p:nvSpPr>
          <p:spPr>
            <a:xfrm>
              <a:off x="5029200" y="3353040"/>
              <a:ext cx="304920" cy="304920"/>
            </a:xfrm>
            <a:prstGeom prst="ellipse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Oval 6"/>
            <p:cNvSpPr/>
            <p:nvPr/>
          </p:nvSpPr>
          <p:spPr>
            <a:xfrm>
              <a:off x="5486400" y="3353040"/>
              <a:ext cx="304920" cy="304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7"/>
            <p:cNvSpPr/>
            <p:nvPr/>
          </p:nvSpPr>
          <p:spPr>
            <a:xfrm>
              <a:off x="4419720" y="3276720"/>
              <a:ext cx="1600200" cy="4572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8"/>
            <p:cNvSpPr/>
            <p:nvPr/>
          </p:nvSpPr>
          <p:spPr>
            <a:xfrm>
              <a:off x="6705720" y="3353040"/>
              <a:ext cx="304560" cy="304920"/>
            </a:xfrm>
            <a:prstGeom prst="ellipse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Oval 9"/>
            <p:cNvSpPr/>
            <p:nvPr/>
          </p:nvSpPr>
          <p:spPr>
            <a:xfrm>
              <a:off x="7162920" y="3353040"/>
              <a:ext cx="304560" cy="304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10"/>
            <p:cNvSpPr/>
            <p:nvPr/>
          </p:nvSpPr>
          <p:spPr>
            <a:xfrm>
              <a:off x="7620120" y="3353040"/>
              <a:ext cx="304560" cy="304920"/>
            </a:xfrm>
            <a:prstGeom prst="ellipse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AutoShape 11"/>
            <p:cNvSpPr/>
            <p:nvPr/>
          </p:nvSpPr>
          <p:spPr>
            <a:xfrm>
              <a:off x="6553080" y="3276720"/>
              <a:ext cx="1600200" cy="4572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12"/>
            <p:cNvSpPr/>
            <p:nvPr/>
          </p:nvSpPr>
          <p:spPr>
            <a:xfrm>
              <a:off x="6095880" y="3505320"/>
              <a:ext cx="381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761D-2513-42A1-9AFB-4FB8583D2F7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phing a Search Spac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2" name="Oval 4"/>
          <p:cNvSpPr/>
          <p:nvPr/>
        </p:nvSpPr>
        <p:spPr>
          <a:xfrm>
            <a:off x="3886200" y="205740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6"/>
          <p:cNvSpPr/>
          <p:nvPr/>
        </p:nvSpPr>
        <p:spPr>
          <a:xfrm>
            <a:off x="4343400" y="205740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7"/>
          <p:cNvSpPr/>
          <p:nvPr/>
        </p:nvSpPr>
        <p:spPr>
          <a:xfrm>
            <a:off x="4800600" y="205740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1"/>
          <p:cNvSpPr/>
          <p:nvPr/>
        </p:nvSpPr>
        <p:spPr>
          <a:xfrm>
            <a:off x="3733920" y="1981080"/>
            <a:ext cx="1600200" cy="457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12"/>
          <p:cNvSpPr/>
          <p:nvPr/>
        </p:nvSpPr>
        <p:spPr>
          <a:xfrm>
            <a:off x="3886200" y="289548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13"/>
          <p:cNvSpPr/>
          <p:nvPr/>
        </p:nvSpPr>
        <p:spPr>
          <a:xfrm>
            <a:off x="4343400" y="28954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14"/>
          <p:cNvSpPr/>
          <p:nvPr/>
        </p:nvSpPr>
        <p:spPr>
          <a:xfrm>
            <a:off x="4800600" y="289548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15"/>
          <p:cNvSpPr/>
          <p:nvPr/>
        </p:nvSpPr>
        <p:spPr>
          <a:xfrm>
            <a:off x="3733920" y="2819520"/>
            <a:ext cx="1600200" cy="457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16"/>
          <p:cNvSpPr/>
          <p:nvPr/>
        </p:nvSpPr>
        <p:spPr>
          <a:xfrm>
            <a:off x="3886200" y="38098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17"/>
          <p:cNvSpPr/>
          <p:nvPr/>
        </p:nvSpPr>
        <p:spPr>
          <a:xfrm>
            <a:off x="4343400" y="380988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18"/>
          <p:cNvSpPr/>
          <p:nvPr/>
        </p:nvSpPr>
        <p:spPr>
          <a:xfrm>
            <a:off x="4800600" y="38098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19"/>
          <p:cNvSpPr/>
          <p:nvPr/>
        </p:nvSpPr>
        <p:spPr>
          <a:xfrm>
            <a:off x="3733920" y="3733920"/>
            <a:ext cx="1600200" cy="457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20"/>
          <p:cNvSpPr/>
          <p:nvPr/>
        </p:nvSpPr>
        <p:spPr>
          <a:xfrm>
            <a:off x="3886200" y="47242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21"/>
          <p:cNvSpPr/>
          <p:nvPr/>
        </p:nvSpPr>
        <p:spPr>
          <a:xfrm>
            <a:off x="4343400" y="47242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22"/>
          <p:cNvSpPr/>
          <p:nvPr/>
        </p:nvSpPr>
        <p:spPr>
          <a:xfrm>
            <a:off x="4800600" y="47242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23"/>
          <p:cNvSpPr/>
          <p:nvPr/>
        </p:nvSpPr>
        <p:spPr>
          <a:xfrm>
            <a:off x="3733920" y="4648320"/>
            <a:ext cx="1600200" cy="457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24"/>
          <p:cNvSpPr/>
          <p:nvPr/>
        </p:nvSpPr>
        <p:spPr>
          <a:xfrm>
            <a:off x="5943600" y="289548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25"/>
          <p:cNvSpPr/>
          <p:nvPr/>
        </p:nvSpPr>
        <p:spPr>
          <a:xfrm>
            <a:off x="6400800" y="289548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Oval 26"/>
          <p:cNvSpPr/>
          <p:nvPr/>
        </p:nvSpPr>
        <p:spPr>
          <a:xfrm>
            <a:off x="6858000" y="28954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27"/>
          <p:cNvSpPr/>
          <p:nvPr/>
        </p:nvSpPr>
        <p:spPr>
          <a:xfrm>
            <a:off x="5791320" y="2819520"/>
            <a:ext cx="1600200" cy="457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28"/>
          <p:cNvSpPr/>
          <p:nvPr/>
        </p:nvSpPr>
        <p:spPr>
          <a:xfrm>
            <a:off x="5943600" y="380988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Oval 29"/>
          <p:cNvSpPr/>
          <p:nvPr/>
        </p:nvSpPr>
        <p:spPr>
          <a:xfrm>
            <a:off x="6400800" y="38098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30"/>
          <p:cNvSpPr/>
          <p:nvPr/>
        </p:nvSpPr>
        <p:spPr>
          <a:xfrm>
            <a:off x="6858000" y="38098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31"/>
          <p:cNvSpPr/>
          <p:nvPr/>
        </p:nvSpPr>
        <p:spPr>
          <a:xfrm>
            <a:off x="5791320" y="3733920"/>
            <a:ext cx="1600200" cy="457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32"/>
          <p:cNvSpPr/>
          <p:nvPr/>
        </p:nvSpPr>
        <p:spPr>
          <a:xfrm>
            <a:off x="1828800" y="28954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33"/>
          <p:cNvSpPr/>
          <p:nvPr/>
        </p:nvSpPr>
        <p:spPr>
          <a:xfrm>
            <a:off x="2286000" y="289548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34"/>
          <p:cNvSpPr/>
          <p:nvPr/>
        </p:nvSpPr>
        <p:spPr>
          <a:xfrm>
            <a:off x="2743200" y="289548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35"/>
          <p:cNvSpPr/>
          <p:nvPr/>
        </p:nvSpPr>
        <p:spPr>
          <a:xfrm>
            <a:off x="1676520" y="2819520"/>
            <a:ext cx="1600200" cy="457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36"/>
          <p:cNvSpPr/>
          <p:nvPr/>
        </p:nvSpPr>
        <p:spPr>
          <a:xfrm>
            <a:off x="1828800" y="38098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37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38"/>
          <p:cNvSpPr/>
          <p:nvPr/>
        </p:nvSpPr>
        <p:spPr>
          <a:xfrm>
            <a:off x="2743200" y="380988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39"/>
          <p:cNvSpPr/>
          <p:nvPr/>
        </p:nvSpPr>
        <p:spPr>
          <a:xfrm>
            <a:off x="1676520" y="3733920"/>
            <a:ext cx="1600200" cy="457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40"/>
          <p:cNvSpPr/>
          <p:nvPr/>
        </p:nvSpPr>
        <p:spPr>
          <a:xfrm flipH="1">
            <a:off x="2437920" y="2209680"/>
            <a:ext cx="12956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41"/>
          <p:cNvSpPr/>
          <p:nvPr/>
        </p:nvSpPr>
        <p:spPr>
          <a:xfrm>
            <a:off x="2438280" y="3276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42"/>
          <p:cNvSpPr/>
          <p:nvPr/>
        </p:nvSpPr>
        <p:spPr>
          <a:xfrm>
            <a:off x="2438280" y="4191120"/>
            <a:ext cx="12956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43"/>
          <p:cNvSpPr/>
          <p:nvPr/>
        </p:nvSpPr>
        <p:spPr>
          <a:xfrm flipV="1">
            <a:off x="4495680" y="24379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44"/>
          <p:cNvSpPr/>
          <p:nvPr/>
        </p:nvSpPr>
        <p:spPr>
          <a:xfrm>
            <a:off x="4495680" y="4191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45"/>
          <p:cNvSpPr/>
          <p:nvPr/>
        </p:nvSpPr>
        <p:spPr>
          <a:xfrm>
            <a:off x="5334120" y="2209680"/>
            <a:ext cx="12189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46"/>
          <p:cNvSpPr/>
          <p:nvPr/>
        </p:nvSpPr>
        <p:spPr>
          <a:xfrm>
            <a:off x="6553080" y="3276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47"/>
          <p:cNvSpPr/>
          <p:nvPr/>
        </p:nvSpPr>
        <p:spPr>
          <a:xfrm flipH="1">
            <a:off x="5334120" y="4191120"/>
            <a:ext cx="12189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Group 54"/>
          <p:cNvGrpSpPr/>
          <p:nvPr/>
        </p:nvGrpSpPr>
        <p:grpSpPr>
          <a:xfrm>
            <a:off x="3582360" y="2514600"/>
            <a:ext cx="1819800" cy="1968480"/>
            <a:chOff x="3582360" y="2514600"/>
            <a:chExt cx="1819800" cy="1968480"/>
          </a:xfrm>
        </p:grpSpPr>
        <p:sp>
          <p:nvSpPr>
            <p:cNvPr id="623" name="Text Box 52"/>
            <p:cNvSpPr/>
            <p:nvPr/>
          </p:nvSpPr>
          <p:spPr>
            <a:xfrm>
              <a:off x="3582360" y="251460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Text Box 53"/>
            <p:cNvSpPr/>
            <p:nvPr/>
          </p:nvSpPr>
          <p:spPr>
            <a:xfrm>
              <a:off x="4649760" y="41148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Line 56"/>
          <p:cNvSpPr/>
          <p:nvPr/>
        </p:nvSpPr>
        <p:spPr>
          <a:xfrm flipV="1">
            <a:off x="4495680" y="2437920"/>
            <a:ext cx="0" cy="381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57"/>
          <p:cNvSpPr/>
          <p:nvPr/>
        </p:nvSpPr>
        <p:spPr>
          <a:xfrm flipH="1">
            <a:off x="2437920" y="2209680"/>
            <a:ext cx="1295640" cy="6098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58"/>
          <p:cNvSpPr/>
          <p:nvPr/>
        </p:nvSpPr>
        <p:spPr>
          <a:xfrm>
            <a:off x="2438280" y="3276720"/>
            <a:ext cx="0" cy="4572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59"/>
          <p:cNvSpPr/>
          <p:nvPr/>
        </p:nvSpPr>
        <p:spPr>
          <a:xfrm>
            <a:off x="2438280" y="4191120"/>
            <a:ext cx="1295640" cy="6858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60"/>
          <p:cNvSpPr/>
          <p:nvPr/>
        </p:nvSpPr>
        <p:spPr>
          <a:xfrm>
            <a:off x="4495680" y="4191120"/>
            <a:ext cx="0" cy="4572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61"/>
          <p:cNvSpPr/>
          <p:nvPr/>
        </p:nvSpPr>
        <p:spPr>
          <a:xfrm>
            <a:off x="210960" y="4457880"/>
            <a:ext cx="298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Often, a problem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represented as a graph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finding a solution is obt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by performing an operation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he graph (e.g. finding a pa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5E5B-E29D-4162-ACDD-BFB72E58E47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rected Graph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directed grap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 finite set of vertices and a finite set of edges; both sets may be empty to represent the empty graph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edge connects two vertices, called the source and target; the edge connects the source to the target (order is significan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E0CE-47F1-4BF9-BEF0-047245BC011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rected Graph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8" name="Oval 5"/>
          <p:cNvSpPr/>
          <p:nvPr/>
        </p:nvSpPr>
        <p:spPr>
          <a:xfrm>
            <a:off x="1143000" y="251460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6"/>
          <p:cNvSpPr/>
          <p:nvPr/>
        </p:nvSpPr>
        <p:spPr>
          <a:xfrm>
            <a:off x="1676520" y="350532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7"/>
          <p:cNvSpPr/>
          <p:nvPr/>
        </p:nvSpPr>
        <p:spPr>
          <a:xfrm>
            <a:off x="1905120" y="182880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8"/>
          <p:cNvSpPr/>
          <p:nvPr/>
        </p:nvSpPr>
        <p:spPr>
          <a:xfrm>
            <a:off x="3048120" y="335268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9"/>
          <p:cNvSpPr/>
          <p:nvPr/>
        </p:nvSpPr>
        <p:spPr>
          <a:xfrm>
            <a:off x="3124080" y="204480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3" name="AutoShape 17"/>
          <p:cNvCxnSpPr>
            <a:stCxn id="640" idx="6"/>
            <a:endCxn id="642" idx="2"/>
          </p:cNvCxnSpPr>
          <p:nvPr/>
        </p:nvCxnSpPr>
        <p:spPr>
          <a:xfrm>
            <a:off x="2362320" y="2057400"/>
            <a:ext cx="76248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18"/>
          <p:cNvCxnSpPr>
            <a:stCxn id="638" idx="6"/>
            <a:endCxn id="641" idx="2"/>
          </p:cNvCxnSpPr>
          <p:nvPr/>
        </p:nvCxnSpPr>
        <p:spPr>
          <a:xfrm>
            <a:off x="1600200" y="2743200"/>
            <a:ext cx="144864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5" name="AutoShape 19"/>
          <p:cNvCxnSpPr>
            <a:stCxn id="638" idx="7"/>
            <a:endCxn id="640" idx="3"/>
          </p:cNvCxnSpPr>
          <p:nvPr/>
        </p:nvCxnSpPr>
        <p:spPr>
          <a:xfrm flipV="1">
            <a:off x="1533240" y="2218680"/>
            <a:ext cx="438840" cy="36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6" name="AutoShape 20"/>
          <p:cNvCxnSpPr>
            <a:stCxn id="639" idx="1"/>
            <a:endCxn id="638" idx="4"/>
          </p:cNvCxnSpPr>
          <p:nvPr/>
        </p:nvCxnSpPr>
        <p:spPr>
          <a:xfrm flipH="1" flipV="1">
            <a:off x="1371240" y="2971080"/>
            <a:ext cx="372240" cy="600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47" name="AutoShape 21"/>
          <p:cNvCxnSpPr>
            <a:stCxn id="641" idx="0"/>
            <a:endCxn id="642" idx="4"/>
          </p:cNvCxnSpPr>
          <p:nvPr/>
        </p:nvCxnSpPr>
        <p:spPr>
          <a:xfrm flipV="1">
            <a:off x="3276360" y="2501280"/>
            <a:ext cx="76680" cy="851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648" name="Text Box 22"/>
          <p:cNvSpPr/>
          <p:nvPr/>
        </p:nvSpPr>
        <p:spPr>
          <a:xfrm>
            <a:off x="4415400" y="2590920"/>
            <a:ext cx="357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Useful for modelling direc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phenomena, like geographical trave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or game-playing where moves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irrever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3"/>
          <p:cNvSpPr/>
          <p:nvPr/>
        </p:nvSpPr>
        <p:spPr>
          <a:xfrm>
            <a:off x="4415760" y="3886200"/>
            <a:ext cx="36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Examples: modelling states in a ch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game, or Tic-Tac-T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4"/>
          <p:cNvSpPr/>
          <p:nvPr/>
        </p:nvSpPr>
        <p:spPr>
          <a:xfrm>
            <a:off x="4415040" y="152388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Arrows are used to represent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edges; arrows start at the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vertex and point to the target ve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Microsoft Office User</cp:lastModifiedBy>
  <cp:lastPrinted>1999-05-17T11:10:33Z</cp:lastPrinted>
  <dcterms:modified xsi:type="dcterms:W3CDTF">2020-02-19T15:12:51Z</dcterms:modified>
  <cp:revision>39</cp:revision>
  <dc:subject/>
  <dc:title>No Slide Title</dc:title>
</cp:coreProperties>
</file>