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CFCA-EA2C-4683-82EB-C001012A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14BE-804E-4E64-A5E2-E1A2ED6DE8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04F5E-1C1A-48D4-8600-FCAE31BD97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FC2A4-9924-4930-A1ED-F3C1FC4EC31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5B0EB-ABE7-4399-ADDD-C79AD0A851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C2720-C571-4FFC-8EE4-99CCAEDC6E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30AE5-03D2-4BF8-8771-2237E30C2B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280BC-C0F3-4BD2-8731-B37925A41D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193FB-B251-46F8-BD66-2F1B9C21A8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525F3-8080-4DD7-9519-237E6A9FC6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F9126-0CB4-4937-B58D-C19E43C458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AC9C7-B152-4D74-9B34-928161B4D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E3FE-67DA-47D9-90B2-AAD0A3C531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C878E-2AC9-434F-BA9B-3B3BB0CA3A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FE19C3-3782-4807-B2B4-0D34CCE91C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E2C80-C631-4461-BDCE-CEB8E4E4BB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7E397-F7C7-4FDE-86AD-4EC935F6698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6C0FE-7F46-4909-884F-D7A6F13DA0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DBBA0-A1A2-4762-9828-CF77DFF180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669571-CD04-44CB-B5A3-6D7D6D5123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6FEA9-B535-4F1C-AD03-C0F42D7A73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B50BAA-C329-478C-BDB2-82015D53D2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167C2-4D3B-439F-AC04-BB810011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0295-FF1A-4C94-B19D-D78FBB0D40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040C5E-B23D-4BB2-8F8B-EF8C8CF6FD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FD0C-3FA0-4753-9205-285BA5449D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1443-5B56-42B3-B866-0C8F4C34D8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8A5A-E985-451D-A556-66616912C8A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F0C5-12C6-418C-8E90-75E65A472E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8262-5E79-4E99-8714-A17D209896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2C0D-5221-4871-B432-73C138B3A2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00DA-F7AE-43C2-90B0-666E0F0456E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E61AA-3D5F-43B8-BDE7-3177279208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0709-6819-40B0-A411-9D298627B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B3D-F8D1-4DB4-8DC4-471454E0F8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B3471-F99E-4423-8AE1-BA4E2B29DE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B269-8E9D-4133-8009-B8C9DAD46C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E0AA-FC20-4DF2-BB5E-97B5495BE4D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2F34F-65B3-444D-BCF6-1E8D0A0B96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570CF-3EB7-461A-AD92-D5048993A5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78471-37C5-422B-B693-1611A4E77A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4386F-782E-4E79-89AC-398086BB4E3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23875-CEE9-4114-9775-1731453239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EC960F-CA57-44C6-9348-536F9098ED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4B60CE-D40B-4707-B98D-DBFCFD06F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634-F72D-402C-86D0-8CDA6AEF2F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D5711-C124-41D3-A747-FC8F03984B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FABB1-1C42-4151-92E8-68E62C99594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6633E-FB3A-4FCE-BEF6-6D44FD881DC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2D2F6-17A0-4064-B3F1-96D493A6BF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91B34F-FC57-46F4-832A-6EDEC62F34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D92-FBC9-4C27-98BF-A6B470F358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A32-E5F5-40BB-AFAB-C549D46076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71B-A4E6-4E50-B3EC-73AF323658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023-1AA7-4BFC-98DA-339226F75D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142-1C05-4188-8C02-7D2755E78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83DE-B8D3-42B6-8109-460AB92A0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C47-D8F4-4323-B232-0BFD6A366B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B57-87EE-419A-8C9A-C25489135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BCA-6380-48FA-9943-9D51E7A29E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B6A-43AD-48D2-8D35-F8D16C3B3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64B-7060-441D-8684-AE77B999D5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F4014-C610-4837-9AF9-EB6AD0CB36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2ADD5-250F-46EB-A946-05EB3656BB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83E0-67F2-4E8D-9C42-670336A053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DDC7-E1EA-4375-B62E-A5522DB276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B6564-5A1E-4737-BCB2-BB18B57C8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CDAC-7853-4FAD-B4D9-2905F33F10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AD8D0-5981-4667-9422-0E99920C26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BE13-A01D-41C5-BB93-B8230F5A18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44C8-C45E-4A9B-9FF9-CF27BADA86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3B505-B14A-4120-A2DF-2DF8552EC4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E2FDE-A6B5-4C76-98FE-77289E4763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3FFCB-013E-48CA-9611-45516D29DC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2275-AAC5-4F4E-B3FC-CAC428359A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ADE7F-C568-4897-827D-4BC585B88D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83E3B-05A5-4D45-A660-5623808BEF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97AB5-493E-415B-A84D-16EC75D33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004B-C570-4E80-AA6D-ADF1B101E7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657AF-D1B2-4C13-87B1-BB8E1B9DD7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398342-6CCC-49EC-A11F-925B45CDB9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BF5F6-5E4A-4504-9E4C-A6E2D4EAF3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F34A1-0632-43FD-91F7-49DB279130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49DE9-55CB-44A7-A34B-FC33B3E7DE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38D0F-B6FC-4C14-9D6C-2AF7C1DEB9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6E3A8-4E3D-4582-A4A9-77F791A13F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0998D-0C1D-4E18-811F-C345B8A0DC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A2182-A025-4ED7-8F2D-819F33F309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48BE-396A-42A4-BB1A-9D3ECE8B1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9E5F-610F-4427-B462-CCBCAE13F2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4B07-E160-4857-AA01-109C7AE067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4FBB-A0BE-4B20-88EE-5D64854D3B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806E-72DA-45A9-A604-CC8FB54594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53A4-6B5E-4263-B808-2DDA236650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A3DD-96B8-494F-B322-E812A0E71D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4BBA-C1D9-484D-980A-441FCA2029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691B-0A2B-4782-BCD5-7FFFFD87EE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5261-061A-4791-8208-3DD38E765A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CB74-9FFA-47C5-8A0D-D06D28DB59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2A40-65DF-4236-93DE-9CD88CD2B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B816-8F89-4BB1-AEA3-61C3E9CDD6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BCEA-1638-4678-ABCA-17FA35098E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521C9-0687-452D-877D-8828ADD0DE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10E3D-2EA6-4CEC-8875-519AD3A0DB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09885-B7E8-4E4C-A571-3B7A847DFA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F9767-14A1-4111-B1EB-158E8FBF53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03E20-021D-4C9D-9518-D2746EBA75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39CD6-5A80-44F6-ABBA-1942E0DE92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4A1EE-0D0D-4C03-BD29-509E47C160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5EA96-3DF7-42D1-946A-188C535556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D0BCF-4A35-4781-B170-160821B52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DD36-9D9B-4590-B419-51086A72F5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8AE6F-D50D-4D26-A247-64A4EA5910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EBC75-D987-403F-9D20-F35C6712F8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FBBD5-9574-435C-B2AD-9103E3060B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D6240-2BEA-45C2-961E-F3A9215673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866119-59CA-41CC-B0DF-8ECAFBBD63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5C501C-42FC-45C7-B371-C265C64435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015DA-F71D-4BD0-8249-244C467F57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44020-D1F5-4F10-813A-C89BAAEEC3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3D878-AD43-44CF-A3B5-944DBB4A115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7F7DDB-0CA3-4F9A-9C33-35477FB96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FD0C-FBE5-44C1-91F1-805A54CCA2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45AEB5-3D03-4DB2-A607-5A8FBE726D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FC801-D6ED-4824-B921-EDFDA93D93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06DF2-5DEF-4779-8781-426C623B93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E941B-2DC8-4498-BAA0-C2D76CAF2D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5E681-AB3A-4B8A-A847-5BE0342900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77C1-8D05-48BC-BE63-E53444EFEF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EDE9-11D0-4323-82A6-6964E163C35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8893-6BE7-456C-A745-AE705799B8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C825-C782-4C3E-87B3-50C62C5264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50EF-EF5D-49F0-AEBD-CE3414B50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105B-6637-4421-905F-1E3FBC3B14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98F1-3821-47CA-A838-61D0C4FFEB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AFBE-AC23-4CE8-A9B7-C7FE39F47A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EE13-E016-49D3-BF2C-5B8A525016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9DB7-DC33-47D5-8E66-06138ABEEC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C91C-CD31-4D2F-BA67-04715E37DC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DF98-0141-4E12-A643-70302C1250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098C-0337-409A-B643-22D6640A61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DA235-21A0-4914-8A5F-434D883749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FB50A-6BB1-4963-BD09-5A8E234AFB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26D04-1EE0-471A-A2C4-F47E6FBB9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C54-DD95-429D-AF97-78AD1149B8B2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009-3741-4B43-9FD5-59C294C7D1A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5B94-FDF4-4673-BBF9-AE8B08C338FA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926-BA88-40C5-9B6E-C9C1C0AB8D3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D24-597C-4FFD-9DFD-47D520BF87D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2F3-DADC-4503-86A2-88264785A64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C72-001F-41CB-8814-F87D4C6569C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E14-F6FA-47E5-B748-81A04455788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0A2C-AE9E-4F92-8071-B7305773CBFA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74CD-41A8-4777-B5D6-D6D60E54866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D3E-FBD7-4F09-A330-D3DCAFA9C9C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FFE-6221-43FF-9841-53C54072479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31B-67AA-4389-8CDA-C2C636C2BED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7: Grap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EC4-688F-42E4-A847-526EF9D3F16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erminolog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oop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edges that connect a vertex to itsel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equences of vertices p0, p1, … pm such that each adjacent pair of vertices are connected by an ed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ultiple Edg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two nodes may be connected by &gt;1 ed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BF0C-009C-4F59-AA7B-2F1CF68DB45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erminolog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mple Grap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have no loops and no multiple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23E-C2AE-4546-AD80-7842CE73D13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Implement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djacency Matri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quare grid of boolea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graph contains N vertices, then the grid contains N rows and N 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wo vertices numbered I and J, the element at row I and column J is true if there is an edge from I to J, otherwis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BC31-3AAF-4BA2-BB05-D61712BCA38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jacency Matri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380880" y="2590920"/>
            <a:ext cx="2438640" cy="2133360"/>
            <a:chOff x="380880" y="2590920"/>
            <a:chExt cx="2438640" cy="2133360"/>
          </a:xfrm>
        </p:grpSpPr>
        <p:sp>
          <p:nvSpPr>
            <p:cNvPr id="667" name="Oval 4"/>
            <p:cNvSpPr/>
            <p:nvPr/>
          </p:nvSpPr>
          <p:spPr>
            <a:xfrm>
              <a:off x="38088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5"/>
            <p:cNvSpPr/>
            <p:nvPr/>
          </p:nvSpPr>
          <p:spPr>
            <a:xfrm>
              <a:off x="914400" y="4267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Oval 6"/>
            <p:cNvSpPr/>
            <p:nvPr/>
          </p:nvSpPr>
          <p:spPr>
            <a:xfrm>
              <a:off x="1143000" y="25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7"/>
            <p:cNvSpPr/>
            <p:nvPr/>
          </p:nvSpPr>
          <p:spPr>
            <a:xfrm>
              <a:off x="2286000" y="4114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8"/>
            <p:cNvSpPr/>
            <p:nvPr/>
          </p:nvSpPr>
          <p:spPr>
            <a:xfrm>
              <a:off x="2362320" y="2806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2" name="AutoShape 9"/>
            <p:cNvCxnSpPr>
              <a:stCxn id="669" idx="6"/>
              <a:endCxn id="671" idx="2"/>
            </p:cNvCxnSpPr>
            <p:nvPr/>
          </p:nvCxnSpPr>
          <p:spPr>
            <a:xfrm>
              <a:off x="1599840" y="2819160"/>
              <a:ext cx="762840" cy="216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3" name="AutoShape 10"/>
            <p:cNvCxnSpPr>
              <a:stCxn id="667" idx="6"/>
              <a:endCxn id="670" idx="2"/>
            </p:cNvCxnSpPr>
            <p:nvPr/>
          </p:nvCxnSpPr>
          <p:spPr>
            <a:xfrm>
              <a:off x="838080" y="3505320"/>
              <a:ext cx="1448640" cy="838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4" name="AutoShape 11"/>
            <p:cNvCxnSpPr>
              <a:stCxn id="667" idx="7"/>
              <a:endCxn id="669" idx="3"/>
            </p:cNvCxnSpPr>
            <p:nvPr/>
          </p:nvCxnSpPr>
          <p:spPr>
            <a:xfrm flipV="1">
              <a:off x="771120" y="2981160"/>
              <a:ext cx="438840" cy="36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5" name="AutoShape 12"/>
            <p:cNvCxnSpPr>
              <a:stCxn id="668" idx="1"/>
              <a:endCxn id="667" idx="4"/>
            </p:cNvCxnSpPr>
            <p:nvPr/>
          </p:nvCxnSpPr>
          <p:spPr>
            <a:xfrm flipH="1" flipV="1">
              <a:off x="609120" y="3733200"/>
              <a:ext cx="372240" cy="600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76" name="AutoShape 13"/>
            <p:cNvCxnSpPr>
              <a:stCxn id="670" idx="0"/>
              <a:endCxn id="671" idx="4"/>
            </p:cNvCxnSpPr>
            <p:nvPr/>
          </p:nvCxnSpPr>
          <p:spPr>
            <a:xfrm flipV="1">
              <a:off x="2514600" y="3263400"/>
              <a:ext cx="76680" cy="851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77" name="Text Box 14"/>
            <p:cNvSpPr/>
            <p:nvPr/>
          </p:nvSpPr>
          <p:spPr>
            <a:xfrm>
              <a:off x="1220760" y="266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15"/>
            <p:cNvSpPr/>
            <p:nvPr/>
          </p:nvSpPr>
          <p:spPr>
            <a:xfrm>
              <a:off x="458640" y="3352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6"/>
            <p:cNvSpPr/>
            <p:nvPr/>
          </p:nvSpPr>
          <p:spPr>
            <a:xfrm>
              <a:off x="2439720" y="2895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7"/>
            <p:cNvSpPr/>
            <p:nvPr/>
          </p:nvSpPr>
          <p:spPr>
            <a:xfrm>
              <a:off x="992160" y="434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18"/>
            <p:cNvSpPr/>
            <p:nvPr/>
          </p:nvSpPr>
          <p:spPr>
            <a:xfrm>
              <a:off x="236376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Text Box 21"/>
          <p:cNvSpPr/>
          <p:nvPr/>
        </p:nvSpPr>
        <p:spPr>
          <a:xfrm>
            <a:off x="2971800" y="1676520"/>
            <a:ext cx="6172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2"/>
          <p:cNvSpPr/>
          <p:nvPr/>
        </p:nvSpPr>
        <p:spPr>
          <a:xfrm>
            <a:off x="4267080" y="2057400"/>
            <a:ext cx="4496040" cy="213372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31EB-ADE3-4827-8D28-25DE997AC34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jacency Matri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implemented with a two-dimensional array, e.g.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[] adjMatrix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adjMatrix = new boolean[5][5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C33-7C76-41FC-B8B8-327762DD7C5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dge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s can also be represented by creating a linked list for each vert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4"/>
          <p:cNvGrpSpPr/>
          <p:nvPr/>
        </p:nvGrpSpPr>
        <p:grpSpPr>
          <a:xfrm>
            <a:off x="685800" y="3429000"/>
            <a:ext cx="2437920" cy="2133360"/>
            <a:chOff x="685800" y="3429000"/>
            <a:chExt cx="2437920" cy="2133360"/>
          </a:xfrm>
        </p:grpSpPr>
        <p:sp>
          <p:nvSpPr>
            <p:cNvPr id="693" name="Oval 5"/>
            <p:cNvSpPr/>
            <p:nvPr/>
          </p:nvSpPr>
          <p:spPr>
            <a:xfrm>
              <a:off x="685800" y="411480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6"/>
            <p:cNvSpPr/>
            <p:nvPr/>
          </p:nvSpPr>
          <p:spPr>
            <a:xfrm>
              <a:off x="1218960" y="510516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7"/>
            <p:cNvSpPr/>
            <p:nvPr/>
          </p:nvSpPr>
          <p:spPr>
            <a:xfrm>
              <a:off x="1447560" y="342900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8"/>
            <p:cNvSpPr/>
            <p:nvPr/>
          </p:nvSpPr>
          <p:spPr>
            <a:xfrm>
              <a:off x="2590560" y="495288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9"/>
            <p:cNvSpPr/>
            <p:nvPr/>
          </p:nvSpPr>
          <p:spPr>
            <a:xfrm>
              <a:off x="2666880" y="3644640"/>
              <a:ext cx="4568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8" name="AutoShape 10"/>
            <p:cNvCxnSpPr>
              <a:stCxn id="695" idx="6"/>
              <a:endCxn id="697" idx="2"/>
            </p:cNvCxnSpPr>
            <p:nvPr/>
          </p:nvCxnSpPr>
          <p:spPr>
            <a:xfrm>
              <a:off x="1904760" y="3657240"/>
              <a:ext cx="762480" cy="216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99" name="AutoShape 11"/>
            <p:cNvCxnSpPr>
              <a:stCxn id="693" idx="6"/>
              <a:endCxn id="696" idx="2"/>
            </p:cNvCxnSpPr>
            <p:nvPr/>
          </p:nvCxnSpPr>
          <p:spPr>
            <a:xfrm>
              <a:off x="1142280" y="4343400"/>
              <a:ext cx="1448280" cy="838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0" name="AutoShape 12"/>
            <p:cNvCxnSpPr>
              <a:stCxn id="693" idx="7"/>
              <a:endCxn id="695" idx="3"/>
            </p:cNvCxnSpPr>
            <p:nvPr/>
          </p:nvCxnSpPr>
          <p:spPr>
            <a:xfrm flipV="1">
              <a:off x="1076040" y="3819240"/>
              <a:ext cx="438480" cy="36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1" name="AutoShape 13"/>
            <p:cNvCxnSpPr>
              <a:stCxn id="694" idx="1"/>
              <a:endCxn id="693" idx="4"/>
            </p:cNvCxnSpPr>
            <p:nvPr/>
          </p:nvCxnSpPr>
          <p:spPr>
            <a:xfrm flipH="1" flipV="1">
              <a:off x="913320" y="4571280"/>
              <a:ext cx="371880" cy="600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02" name="AutoShape 14"/>
            <p:cNvCxnSpPr>
              <a:stCxn id="696" idx="0"/>
              <a:endCxn id="697" idx="4"/>
            </p:cNvCxnSpPr>
            <p:nvPr/>
          </p:nvCxnSpPr>
          <p:spPr>
            <a:xfrm flipV="1">
              <a:off x="2818800" y="4101480"/>
              <a:ext cx="76680" cy="851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03" name="Text Box 15"/>
            <p:cNvSpPr/>
            <p:nvPr/>
          </p:nvSpPr>
          <p:spPr>
            <a:xfrm>
              <a:off x="1525320" y="3504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6"/>
            <p:cNvSpPr/>
            <p:nvPr/>
          </p:nvSpPr>
          <p:spPr>
            <a:xfrm>
              <a:off x="763200" y="4190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17"/>
            <p:cNvSpPr/>
            <p:nvPr/>
          </p:nvSpPr>
          <p:spPr>
            <a:xfrm>
              <a:off x="2744280" y="373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18"/>
            <p:cNvSpPr/>
            <p:nvPr/>
          </p:nvSpPr>
          <p:spPr>
            <a:xfrm>
              <a:off x="1296720" y="5181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19"/>
            <p:cNvSpPr/>
            <p:nvPr/>
          </p:nvSpPr>
          <p:spPr>
            <a:xfrm>
              <a:off x="266832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46"/>
          <p:cNvGrpSpPr/>
          <p:nvPr/>
        </p:nvGrpSpPr>
        <p:grpSpPr>
          <a:xfrm>
            <a:off x="3962520" y="2971800"/>
            <a:ext cx="990360" cy="1143000"/>
            <a:chOff x="3962520" y="2971800"/>
            <a:chExt cx="990360" cy="1143000"/>
          </a:xfrm>
        </p:grpSpPr>
        <p:sp>
          <p:nvSpPr>
            <p:cNvPr id="709" name="Rectangle 20"/>
            <p:cNvSpPr/>
            <p:nvPr/>
          </p:nvSpPr>
          <p:spPr>
            <a:xfrm>
              <a:off x="3962520" y="3352680"/>
              <a:ext cx="9903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1"/>
            <p:cNvSpPr/>
            <p:nvPr/>
          </p:nvSpPr>
          <p:spPr>
            <a:xfrm>
              <a:off x="3962520" y="3733920"/>
              <a:ext cx="9903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22"/>
            <p:cNvSpPr/>
            <p:nvPr/>
          </p:nvSpPr>
          <p:spPr>
            <a:xfrm>
              <a:off x="427644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23"/>
            <p:cNvSpPr/>
            <p:nvPr/>
          </p:nvSpPr>
          <p:spPr>
            <a:xfrm>
              <a:off x="4123080" y="3733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24"/>
            <p:cNvSpPr/>
            <p:nvPr/>
          </p:nvSpPr>
          <p:spPr>
            <a:xfrm>
              <a:off x="427644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47"/>
          <p:cNvGrpSpPr/>
          <p:nvPr/>
        </p:nvGrpSpPr>
        <p:grpSpPr>
          <a:xfrm>
            <a:off x="5029200" y="2971800"/>
            <a:ext cx="990720" cy="1143000"/>
            <a:chOff x="5029200" y="2971800"/>
            <a:chExt cx="990720" cy="1143000"/>
          </a:xfrm>
        </p:grpSpPr>
        <p:sp>
          <p:nvSpPr>
            <p:cNvPr id="715" name="Rectangle 29"/>
            <p:cNvSpPr/>
            <p:nvPr/>
          </p:nvSpPr>
          <p:spPr>
            <a:xfrm>
              <a:off x="5029200" y="3352680"/>
              <a:ext cx="99072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30"/>
            <p:cNvSpPr/>
            <p:nvPr/>
          </p:nvSpPr>
          <p:spPr>
            <a:xfrm>
              <a:off x="5029200" y="3733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31"/>
            <p:cNvSpPr/>
            <p:nvPr/>
          </p:nvSpPr>
          <p:spPr>
            <a:xfrm>
              <a:off x="534312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5189760" y="3733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33"/>
            <p:cNvSpPr/>
            <p:nvPr/>
          </p:nvSpPr>
          <p:spPr>
            <a:xfrm>
              <a:off x="534312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48"/>
          <p:cNvGrpSpPr/>
          <p:nvPr/>
        </p:nvGrpSpPr>
        <p:grpSpPr>
          <a:xfrm>
            <a:off x="6095880" y="2971800"/>
            <a:ext cx="1630800" cy="2209680"/>
            <a:chOff x="6095880" y="2971800"/>
            <a:chExt cx="1630800" cy="2209680"/>
          </a:xfrm>
        </p:grpSpPr>
        <p:sp>
          <p:nvSpPr>
            <p:cNvPr id="721" name="Rectangle 34"/>
            <p:cNvSpPr/>
            <p:nvPr/>
          </p:nvSpPr>
          <p:spPr>
            <a:xfrm>
              <a:off x="6095880" y="3352680"/>
              <a:ext cx="99072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5"/>
            <p:cNvSpPr/>
            <p:nvPr/>
          </p:nvSpPr>
          <p:spPr>
            <a:xfrm>
              <a:off x="6095880" y="3733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6"/>
            <p:cNvSpPr/>
            <p:nvPr/>
          </p:nvSpPr>
          <p:spPr>
            <a:xfrm>
              <a:off x="6409800" y="3352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6409800" y="2971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39"/>
            <p:cNvSpPr/>
            <p:nvPr/>
          </p:nvSpPr>
          <p:spPr>
            <a:xfrm>
              <a:off x="6095880" y="44197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40"/>
            <p:cNvSpPr/>
            <p:nvPr/>
          </p:nvSpPr>
          <p:spPr>
            <a:xfrm>
              <a:off x="6095880" y="480060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6409800" y="441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6256800" y="48006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43"/>
            <p:cNvSpPr/>
            <p:nvPr/>
          </p:nvSpPr>
          <p:spPr>
            <a:xfrm>
              <a:off x="6553080" y="3886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4"/>
            <p:cNvSpPr/>
            <p:nvPr/>
          </p:nvSpPr>
          <p:spPr>
            <a:xfrm>
              <a:off x="7305120" y="3232080"/>
              <a:ext cx="42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Text Box 45"/>
          <p:cNvSpPr/>
          <p:nvPr/>
        </p:nvSpPr>
        <p:spPr>
          <a:xfrm>
            <a:off x="4848840" y="5257800"/>
            <a:ext cx="30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For each entry J i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number I, there is an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from I t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5DA-34A2-4F04-991C-58DF2B951B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dge Se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previously-defined set ADT to hold the integers corresponding to target vertices from a given vertex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Set[] edges = new IntSet[5]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Quiz: Draw a Red Black Tree implementation of IntSe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692-84B4-4BB9-8C4C-17128D2AB83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ng or Removing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small cons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logN) if B-Tree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ing if an Edge is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small cons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logN) if B-Tree or Red Black tree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DD8-063A-4E35-89BB-CE8E26D8897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orst-Cas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rating through a Vertex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Ed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acency matrix: O(N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list: O(E) if there are E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ge set: O(E) if a B-Tree or Red Black tree implementation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n a dense graph, E will be at most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F62-5925-4F37-A7BC-498739F232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oice of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operations are more frequ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a good set ADT i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erage number of edges per vert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 matrix is wasteful for sparse graphs,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spac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F0B-4ACB-4CEF-858A-D4CF1AB1AFC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irected 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ed 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ph Travers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th-first (recursive vs. st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dth-first (que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7F4-A4E2-4E81-AA09-F18D800DF41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ogramming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, directed,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labe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generality, labels will be represented as references to Java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Object cl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04E7-30B7-4A4D-AC65-B53A7B15903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tance Variabl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class Graph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private boolean[][] edges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private Object[] labels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012-B60E-4370-A746-A690DA8A977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nstructo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Graph (int n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edges = new boolean[n][n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labels = new Object[n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2CD-C068-4388-9CA9-6DC913AF882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dd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add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edges[s][t] = tru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12C-916C-4DC4-8DD3-D6AA9F2B72C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etLabel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Object getLabel(int v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return labels[v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BF1-E3BC-459D-A008-B1561CD4642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boolean is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return edges[s][t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CA1-CB0A-4F47-89C2-A40FE0A1AA0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ighbors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int[] neighbors(int v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i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count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[] answer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count = 0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 i&lt;labels.length; 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if (edges[v][i]) count++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7FB-2737-4621-9B03-FEF11A87AEC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eighbors Method (cont.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answer = new int[count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count = 0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 I&lt;labels.length; 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if (edges[v][I])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answer[count++] = I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return answe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47E-CD6D-4362-88B0-DC5FB5A670F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moveEdge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removeEdge(int s, int 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edges[s][t] = fals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3CB-E94B-4B48-90B6-45FD530D669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tLabel, size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void setLabel(int v, Object n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labels[v] = n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int size(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return labels.length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29C8-F553-4BF0-8D93-69796DB5BD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es and links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linked in any patte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nlike tre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node in th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 connection between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071-AC25-42BC-84F3-0C0FB079E24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raversal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at a particular vert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all vertices that can be reached from the start by following every possible path (set of edg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: What could go wrong? (Hint: how do graphs differ from trees?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 We have to be careful about detecting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y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C38-C648-4C67-B69A-2FB3BD8CBB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 Traversal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etection can be implemented with an array of boolean values representing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ding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 the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vertex is shaded once it is visited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 marked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marked = new boolean[g.size()]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CE7-4C22-42BC-B878-2EB9F35B994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stack (or recursion) to store set of vertices to be visi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om a given vertex, visit neighbors I+1 … N onl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raversing all possible edges from neighbor I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04C-FAAA-41FD-BF9B-3106CB0E7D7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2096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58672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6"/>
          <p:cNvSpPr/>
          <p:nvPr/>
        </p:nvSpPr>
        <p:spPr>
          <a:xfrm>
            <a:off x="3124080" y="25146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4114800" y="17524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8"/>
          <p:cNvSpPr/>
          <p:nvPr/>
        </p:nvSpPr>
        <p:spPr>
          <a:xfrm>
            <a:off x="396252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4952880" y="2819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10"/>
          <p:cNvSpPr/>
          <p:nvPr/>
        </p:nvSpPr>
        <p:spPr>
          <a:xfrm>
            <a:off x="5410080" y="1981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AutoShape 12"/>
          <p:cNvCxnSpPr>
            <a:stCxn id="809" idx="2"/>
            <a:endCxn id="806" idx="6"/>
          </p:cNvCxnSpPr>
          <p:nvPr/>
        </p:nvCxnSpPr>
        <p:spPr>
          <a:xfrm flipH="1" flipV="1">
            <a:off x="4571640" y="1980360"/>
            <a:ext cx="8388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1" name="AutoShape 13"/>
          <p:cNvCxnSpPr>
            <a:endCxn id="805" idx="7"/>
          </p:cNvCxnSpPr>
          <p:nvPr/>
        </p:nvCxnSpPr>
        <p:spPr>
          <a:xfrm flipH="1">
            <a:off x="3513960" y="1980720"/>
            <a:ext cx="6008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2" name="AutoShape 14"/>
          <p:cNvCxnSpPr>
            <a:endCxn id="805" idx="3"/>
          </p:cNvCxnSpPr>
          <p:nvPr/>
        </p:nvCxnSpPr>
        <p:spPr>
          <a:xfrm flipV="1">
            <a:off x="2581200" y="2904480"/>
            <a:ext cx="61056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3" name="AutoShape 15"/>
          <p:cNvCxnSpPr>
            <a:endCxn id="803" idx="6"/>
          </p:cNvCxnSpPr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4" name="AutoShape 16"/>
          <p:cNvCxnSpPr>
            <a:endCxn id="804" idx="2"/>
          </p:cNvCxnSpPr>
          <p:nvPr/>
        </p:nvCxnSpPr>
        <p:spPr>
          <a:xfrm>
            <a:off x="4410000" y="3657240"/>
            <a:ext cx="145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5" name="AutoShape 17"/>
          <p:cNvCxnSpPr>
            <a:endCxn id="808" idx="1"/>
          </p:cNvCxnSpPr>
          <p:nvPr/>
        </p:nvCxnSpPr>
        <p:spPr>
          <a:xfrm>
            <a:off x="4486320" y="2133720"/>
            <a:ext cx="5342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6" name="AutoShape 18"/>
          <p:cNvCxnSpPr>
            <a:endCxn id="806" idx="4"/>
          </p:cNvCxnSpPr>
          <p:nvPr/>
        </p:nvCxnSpPr>
        <p:spPr>
          <a:xfrm flipV="1">
            <a:off x="4181400" y="2208960"/>
            <a:ext cx="1627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7" name="AutoShape 19"/>
          <p:cNvCxnSpPr>
            <a:endCxn id="807" idx="1"/>
          </p:cNvCxnSpPr>
          <p:nvPr/>
        </p:nvCxnSpPr>
        <p:spPr>
          <a:xfrm>
            <a:off x="3495600" y="2895120"/>
            <a:ext cx="534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18" name="Text Box 20"/>
          <p:cNvSpPr/>
          <p:nvPr/>
        </p:nvSpPr>
        <p:spPr>
          <a:xfrm>
            <a:off x="42001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09400" y="2590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549540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2950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40478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50382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9526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27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28"/>
          <p:cNvSpPr/>
          <p:nvPr/>
        </p:nvSpPr>
        <p:spPr>
          <a:xfrm>
            <a:off x="3048120" y="24382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29"/>
          <p:cNvSpPr/>
          <p:nvPr/>
        </p:nvSpPr>
        <p:spPr>
          <a:xfrm>
            <a:off x="388620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30"/>
          <p:cNvSpPr/>
          <p:nvPr/>
        </p:nvSpPr>
        <p:spPr>
          <a:xfrm>
            <a:off x="21337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31"/>
          <p:cNvSpPr/>
          <p:nvPr/>
        </p:nvSpPr>
        <p:spPr>
          <a:xfrm>
            <a:off x="57913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32"/>
          <p:cNvSpPr/>
          <p:nvPr/>
        </p:nvSpPr>
        <p:spPr>
          <a:xfrm>
            <a:off x="4876920" y="2743200"/>
            <a:ext cx="60948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AutoShape 33"/>
          <p:cNvCxnSpPr/>
          <p:nvPr/>
        </p:nvCxnSpPr>
        <p:spPr>
          <a:xfrm flipH="1">
            <a:off x="3504600" y="1980720"/>
            <a:ext cx="60084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2" name="AutoShape 35"/>
          <p:cNvCxnSpPr/>
          <p:nvPr/>
        </p:nvCxnSpPr>
        <p:spPr>
          <a:xfrm>
            <a:off x="3504960" y="2895120"/>
            <a:ext cx="53388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3" name="AutoShape 36"/>
          <p:cNvCxnSpPr/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4" name="AutoShape 37"/>
          <p:cNvCxnSpPr/>
          <p:nvPr/>
        </p:nvCxnSpPr>
        <p:spPr>
          <a:xfrm>
            <a:off x="4419720" y="3657240"/>
            <a:ext cx="14580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35" name="AutoShape 38"/>
          <p:cNvCxnSpPr/>
          <p:nvPr/>
        </p:nvCxnSpPr>
        <p:spPr>
          <a:xfrm>
            <a:off x="4495680" y="2133720"/>
            <a:ext cx="534240" cy="7531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6A34-CAEA-4EB7-B2FC-716D75D1A02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 queue to store set of vertices to be visi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it all neighbor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isiting any of their neighb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F7A-7BDE-40A7-9F68-EB66C774284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3" name="Oval 69"/>
          <p:cNvSpPr/>
          <p:nvPr/>
        </p:nvSpPr>
        <p:spPr>
          <a:xfrm>
            <a:off x="22096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70"/>
          <p:cNvSpPr/>
          <p:nvPr/>
        </p:nvSpPr>
        <p:spPr>
          <a:xfrm>
            <a:off x="586728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71"/>
          <p:cNvSpPr/>
          <p:nvPr/>
        </p:nvSpPr>
        <p:spPr>
          <a:xfrm>
            <a:off x="3124080" y="25146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72"/>
          <p:cNvSpPr/>
          <p:nvPr/>
        </p:nvSpPr>
        <p:spPr>
          <a:xfrm>
            <a:off x="4114800" y="17524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73"/>
          <p:cNvSpPr/>
          <p:nvPr/>
        </p:nvSpPr>
        <p:spPr>
          <a:xfrm>
            <a:off x="3962520" y="342900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74"/>
          <p:cNvSpPr/>
          <p:nvPr/>
        </p:nvSpPr>
        <p:spPr>
          <a:xfrm>
            <a:off x="4952880" y="281952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75"/>
          <p:cNvSpPr/>
          <p:nvPr/>
        </p:nvSpPr>
        <p:spPr>
          <a:xfrm>
            <a:off x="5410080" y="1981080"/>
            <a:ext cx="4572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AutoShape 76"/>
          <p:cNvCxnSpPr>
            <a:stCxn id="849" idx="2"/>
            <a:endCxn id="846" idx="6"/>
          </p:cNvCxnSpPr>
          <p:nvPr/>
        </p:nvCxnSpPr>
        <p:spPr>
          <a:xfrm flipH="1" flipV="1">
            <a:off x="4571640" y="1980360"/>
            <a:ext cx="8388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1" name="AutoShape 77"/>
          <p:cNvCxnSpPr>
            <a:endCxn id="845" idx="7"/>
          </p:cNvCxnSpPr>
          <p:nvPr/>
        </p:nvCxnSpPr>
        <p:spPr>
          <a:xfrm flipH="1">
            <a:off x="3513960" y="1980720"/>
            <a:ext cx="6008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2" name="AutoShape 78"/>
          <p:cNvCxnSpPr>
            <a:endCxn id="845" idx="3"/>
          </p:cNvCxnSpPr>
          <p:nvPr/>
        </p:nvCxnSpPr>
        <p:spPr>
          <a:xfrm flipV="1">
            <a:off x="2581200" y="2904480"/>
            <a:ext cx="61056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3" name="AutoShape 79"/>
          <p:cNvCxnSpPr>
            <a:endCxn id="843" idx="6"/>
          </p:cNvCxnSpPr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4" name="AutoShape 80"/>
          <p:cNvCxnSpPr>
            <a:endCxn id="844" idx="2"/>
          </p:cNvCxnSpPr>
          <p:nvPr/>
        </p:nvCxnSpPr>
        <p:spPr>
          <a:xfrm>
            <a:off x="4410000" y="3657240"/>
            <a:ext cx="145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5" name="AutoShape 81"/>
          <p:cNvCxnSpPr>
            <a:endCxn id="848" idx="1"/>
          </p:cNvCxnSpPr>
          <p:nvPr/>
        </p:nvCxnSpPr>
        <p:spPr>
          <a:xfrm>
            <a:off x="4486320" y="2133720"/>
            <a:ext cx="5342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6" name="AutoShape 82"/>
          <p:cNvCxnSpPr>
            <a:endCxn id="846" idx="4"/>
          </p:cNvCxnSpPr>
          <p:nvPr/>
        </p:nvCxnSpPr>
        <p:spPr>
          <a:xfrm flipV="1">
            <a:off x="4181400" y="2208960"/>
            <a:ext cx="1627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57" name="AutoShape 83"/>
          <p:cNvCxnSpPr>
            <a:endCxn id="847" idx="1"/>
          </p:cNvCxnSpPr>
          <p:nvPr/>
        </p:nvCxnSpPr>
        <p:spPr>
          <a:xfrm>
            <a:off x="3495600" y="2895120"/>
            <a:ext cx="534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8" name="Text Box 84"/>
          <p:cNvSpPr/>
          <p:nvPr/>
        </p:nvSpPr>
        <p:spPr>
          <a:xfrm>
            <a:off x="42001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85"/>
          <p:cNvSpPr/>
          <p:nvPr/>
        </p:nvSpPr>
        <p:spPr>
          <a:xfrm>
            <a:off x="3209400" y="2590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86"/>
          <p:cNvSpPr/>
          <p:nvPr/>
        </p:nvSpPr>
        <p:spPr>
          <a:xfrm>
            <a:off x="549540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87"/>
          <p:cNvSpPr/>
          <p:nvPr/>
        </p:nvSpPr>
        <p:spPr>
          <a:xfrm>
            <a:off x="22950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88"/>
          <p:cNvSpPr/>
          <p:nvPr/>
        </p:nvSpPr>
        <p:spPr>
          <a:xfrm>
            <a:off x="40478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89"/>
          <p:cNvSpPr/>
          <p:nvPr/>
        </p:nvSpPr>
        <p:spPr>
          <a:xfrm>
            <a:off x="503820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90"/>
          <p:cNvSpPr/>
          <p:nvPr/>
        </p:nvSpPr>
        <p:spPr>
          <a:xfrm>
            <a:off x="595260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91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92"/>
          <p:cNvSpPr/>
          <p:nvPr/>
        </p:nvSpPr>
        <p:spPr>
          <a:xfrm>
            <a:off x="3048120" y="24382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93"/>
          <p:cNvSpPr/>
          <p:nvPr/>
        </p:nvSpPr>
        <p:spPr>
          <a:xfrm>
            <a:off x="388620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94"/>
          <p:cNvSpPr/>
          <p:nvPr/>
        </p:nvSpPr>
        <p:spPr>
          <a:xfrm>
            <a:off x="21337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95"/>
          <p:cNvSpPr/>
          <p:nvPr/>
        </p:nvSpPr>
        <p:spPr>
          <a:xfrm>
            <a:off x="5791320" y="3352680"/>
            <a:ext cx="60948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96"/>
          <p:cNvSpPr/>
          <p:nvPr/>
        </p:nvSpPr>
        <p:spPr>
          <a:xfrm>
            <a:off x="4876920" y="2743200"/>
            <a:ext cx="60948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AutoShape 97"/>
          <p:cNvCxnSpPr/>
          <p:nvPr/>
        </p:nvCxnSpPr>
        <p:spPr>
          <a:xfrm flipH="1">
            <a:off x="3504600" y="1980720"/>
            <a:ext cx="60084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2" name="AutoShape 98"/>
          <p:cNvCxnSpPr/>
          <p:nvPr/>
        </p:nvCxnSpPr>
        <p:spPr>
          <a:xfrm>
            <a:off x="3504960" y="2895120"/>
            <a:ext cx="533880" cy="600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3" name="AutoShape 99"/>
          <p:cNvCxnSpPr/>
          <p:nvPr/>
        </p:nvCxnSpPr>
        <p:spPr>
          <a:xfrm flipH="1">
            <a:off x="2666520" y="3657240"/>
            <a:ext cx="128664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4" name="AutoShape 100"/>
          <p:cNvCxnSpPr/>
          <p:nvPr/>
        </p:nvCxnSpPr>
        <p:spPr>
          <a:xfrm>
            <a:off x="4419720" y="3657240"/>
            <a:ext cx="14580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  <p:cxnSp>
        <p:nvCxnSpPr>
          <p:cNvPr id="875" name="AutoShape 101"/>
          <p:cNvCxnSpPr/>
          <p:nvPr/>
        </p:nvCxnSpPr>
        <p:spPr>
          <a:xfrm>
            <a:off x="4495680" y="2133720"/>
            <a:ext cx="534240" cy="7531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6F8-870C-48C0-B1E2-9F315C0A68D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Traversal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static void dfPrint (Graph g, int start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boolean[] marked = 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new boolean[g.size()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dfRecurse(g, start, marked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03F-0FCC-469C-9CD9-CB5F80B10AA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public static void dfRecurse (Graph g, int v, boolean[] marked) 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[] next = g.neighbors(v)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int i, nextNeighbor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marked[v] = true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System.out.println(g.getLabel(v))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ontinued on next slid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395F-C434-45C2-82C7-5212902ADD7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pth-First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for (i=0;i&lt;next.length;i++) {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nextNeighbor = next[i]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if (!marked[nextNeighbor])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        depthFirstRecurse(g, nextNeighbor, marked)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88CE-E1AB-421C-A5FF-907030D0467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readth-First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a queue of vertex nu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tart vertex is processed, marked, placed in the que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eat until queue is empt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 a vertex v from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unmarked neighbor u of v: process u, mark u, place u in the que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A33-60D8-4A5B-8DA7-612D85B4AD1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es drawn with cir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s drawn with l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33"/>
          <p:cNvGrpSpPr/>
          <p:nvPr/>
        </p:nvGrpSpPr>
        <p:grpSpPr>
          <a:xfrm>
            <a:off x="2286000" y="3111480"/>
            <a:ext cx="3111480" cy="2374920"/>
            <a:chOff x="2286000" y="3111480"/>
            <a:chExt cx="3111480" cy="2374920"/>
          </a:xfrm>
        </p:grpSpPr>
        <p:sp>
          <p:nvSpPr>
            <p:cNvPr id="534" name="Oval 4"/>
            <p:cNvSpPr/>
            <p:nvPr/>
          </p:nvSpPr>
          <p:spPr>
            <a:xfrm>
              <a:off x="2286000" y="4038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2819520" y="5029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6"/>
            <p:cNvSpPr/>
            <p:nvPr/>
          </p:nvSpPr>
          <p:spPr>
            <a:xfrm>
              <a:off x="3048120" y="33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7"/>
            <p:cNvSpPr/>
            <p:nvPr/>
          </p:nvSpPr>
          <p:spPr>
            <a:xfrm>
              <a:off x="4191120" y="4876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8"/>
            <p:cNvSpPr/>
            <p:nvPr/>
          </p:nvSpPr>
          <p:spPr>
            <a:xfrm>
              <a:off x="4267080" y="3581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2590920" y="4419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V="1">
              <a:off x="3200400" y="5181480"/>
              <a:ext cx="9907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 flipV="1">
              <a:off x="4419720" y="4038120"/>
              <a:ext cx="7596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 flipH="1">
              <a:off x="2742840" y="388620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 flipV="1">
              <a:off x="2666880" y="373392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3429000" y="3111480"/>
              <a:ext cx="1968480" cy="191772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240" h="1208">
                  <a:moveTo>
                    <a:pt x="0" y="200"/>
                  </a:moveTo>
                  <a:cubicBezTo>
                    <a:pt x="136" y="108"/>
                    <a:pt x="272" y="16"/>
                    <a:pt x="432" y="8"/>
                  </a:cubicBezTo>
                  <a:cubicBezTo>
                    <a:pt x="592" y="0"/>
                    <a:pt x="832" y="40"/>
                    <a:pt x="960" y="152"/>
                  </a:cubicBezTo>
                  <a:cubicBezTo>
                    <a:pt x="1088" y="264"/>
                    <a:pt x="1240" y="504"/>
                    <a:pt x="1200" y="680"/>
                  </a:cubicBezTo>
                  <a:cubicBezTo>
                    <a:pt x="1160" y="856"/>
                    <a:pt x="940" y="1032"/>
                    <a:pt x="720" y="1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31"/>
          <p:cNvGrpSpPr/>
          <p:nvPr/>
        </p:nvGrpSpPr>
        <p:grpSpPr>
          <a:xfrm>
            <a:off x="2304360" y="3003480"/>
            <a:ext cx="5752800" cy="2470320"/>
            <a:chOff x="2304360" y="3003480"/>
            <a:chExt cx="5752800" cy="2470320"/>
          </a:xfrm>
        </p:grpSpPr>
        <p:sp>
          <p:nvSpPr>
            <p:cNvPr id="546" name="Text Box 18"/>
            <p:cNvSpPr/>
            <p:nvPr/>
          </p:nvSpPr>
          <p:spPr>
            <a:xfrm>
              <a:off x="3066480" y="34290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9"/>
            <p:cNvSpPr/>
            <p:nvPr/>
          </p:nvSpPr>
          <p:spPr>
            <a:xfrm>
              <a:off x="4209480" y="49528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20"/>
            <p:cNvSpPr/>
            <p:nvPr/>
          </p:nvSpPr>
          <p:spPr>
            <a:xfrm>
              <a:off x="2837880" y="51055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21"/>
            <p:cNvSpPr/>
            <p:nvPr/>
          </p:nvSpPr>
          <p:spPr>
            <a:xfrm>
              <a:off x="4285440" y="36576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2304360" y="411480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5707800" y="300348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Vertic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2298600" y="3505320"/>
            <a:ext cx="5555880" cy="2197080"/>
            <a:chOff x="2298600" y="3505320"/>
            <a:chExt cx="5555880" cy="2197080"/>
          </a:xfrm>
        </p:grpSpPr>
        <p:sp>
          <p:nvSpPr>
            <p:cNvPr id="553" name="Text Box 24"/>
            <p:cNvSpPr/>
            <p:nvPr/>
          </p:nvSpPr>
          <p:spPr>
            <a:xfrm>
              <a:off x="5710680" y="350532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Verdana"/>
                </a:rPr>
                <a:t>Edges are labe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5"/>
            <p:cNvSpPr/>
            <p:nvPr/>
          </p:nvSpPr>
          <p:spPr>
            <a:xfrm>
              <a:off x="3593880" y="5334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6"/>
            <p:cNvSpPr/>
            <p:nvPr/>
          </p:nvSpPr>
          <p:spPr>
            <a:xfrm>
              <a:off x="2298600" y="4648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2450880" y="35053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8"/>
            <p:cNvSpPr/>
            <p:nvPr/>
          </p:nvSpPr>
          <p:spPr>
            <a:xfrm>
              <a:off x="313668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9"/>
            <p:cNvSpPr/>
            <p:nvPr/>
          </p:nvSpPr>
          <p:spPr>
            <a:xfrm>
              <a:off x="3975120" y="4267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30"/>
            <p:cNvSpPr/>
            <p:nvPr/>
          </p:nvSpPr>
          <p:spPr>
            <a:xfrm>
              <a:off x="5270400" y="4343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5237640" y="53341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Visual Layout Doesn</a:t>
            </a:r>
            <a:r>
              <a:rPr b="0" lang="ja-JP" sz="1800" spc="-1" strike="noStrike">
                <a:solidFill>
                  <a:srgbClr val="ff0066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t Ma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FS Without Recurs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S(G,v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mpty stack 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vertex u, set visited[u] :=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v onto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(S is not empt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 := pop 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not visited[u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ted[u] := true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ach unvisited neighbor w of 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 S, w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E048-DA6F-466F-8AEC-49E85FE6785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400-2E7F-451B-BBE4-AC02BF31405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untime complexit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FS or BF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f adjacency matrix is used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 + n^2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^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to visit n vertice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ach vertex visited, we need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n edge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^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f adjacency list is us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 + e) where e is the number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edges in the grap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&lt;= n^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ACF-B06B-4B86-9256-9E4370AD007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Un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un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long with a finite set of edges. The empty graph is an empty set of vertices and an empty set of ed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rder of the connection is un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309-41CC-46BC-AAD0-B3BF3A778AD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ing a Search Spac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coins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game (p. 69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use green = heads, red = tail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witch from green, red, green to red, green, 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ay flip the middle coin any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coins can flip only when the other two coins match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9" name="Group 13"/>
          <p:cNvGrpSpPr/>
          <p:nvPr/>
        </p:nvGrpSpPr>
        <p:grpSpPr>
          <a:xfrm>
            <a:off x="4419720" y="3276720"/>
            <a:ext cx="3733560" cy="457200"/>
            <a:chOff x="4419720" y="3276720"/>
            <a:chExt cx="3733560" cy="457200"/>
          </a:xfrm>
        </p:grpSpPr>
        <p:sp>
          <p:nvSpPr>
            <p:cNvPr id="570" name="Oval 4"/>
            <p:cNvSpPr/>
            <p:nvPr/>
          </p:nvSpPr>
          <p:spPr>
            <a:xfrm>
              <a:off x="4572000" y="3353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5"/>
            <p:cNvSpPr/>
            <p:nvPr/>
          </p:nvSpPr>
          <p:spPr>
            <a:xfrm>
              <a:off x="5029200" y="3353040"/>
              <a:ext cx="30492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6"/>
            <p:cNvSpPr/>
            <p:nvPr/>
          </p:nvSpPr>
          <p:spPr>
            <a:xfrm>
              <a:off x="5486400" y="3353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7"/>
            <p:cNvSpPr/>
            <p:nvPr/>
          </p:nvSpPr>
          <p:spPr>
            <a:xfrm>
              <a:off x="4419720" y="3276720"/>
              <a:ext cx="1600200" cy="4572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8"/>
            <p:cNvSpPr/>
            <p:nvPr/>
          </p:nvSpPr>
          <p:spPr>
            <a:xfrm>
              <a:off x="6705720" y="3353040"/>
              <a:ext cx="30456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9"/>
            <p:cNvSpPr/>
            <p:nvPr/>
          </p:nvSpPr>
          <p:spPr>
            <a:xfrm>
              <a:off x="7162920" y="3353040"/>
              <a:ext cx="30456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10"/>
            <p:cNvSpPr/>
            <p:nvPr/>
          </p:nvSpPr>
          <p:spPr>
            <a:xfrm>
              <a:off x="7620120" y="3353040"/>
              <a:ext cx="304560" cy="30492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11"/>
            <p:cNvSpPr/>
            <p:nvPr/>
          </p:nvSpPr>
          <p:spPr>
            <a:xfrm>
              <a:off x="6553080" y="3276720"/>
              <a:ext cx="1600200" cy="4572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2"/>
            <p:cNvSpPr/>
            <p:nvPr/>
          </p:nvSpPr>
          <p:spPr>
            <a:xfrm>
              <a:off x="6095880" y="3505320"/>
              <a:ext cx="381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D0E-99CD-46BD-BCB2-0D18F6005BC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phing a Search Spac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38862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43434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4800600" y="205740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3733920" y="198108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2"/>
          <p:cNvSpPr/>
          <p:nvPr/>
        </p:nvSpPr>
        <p:spPr>
          <a:xfrm>
            <a:off x="38862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48006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5"/>
          <p:cNvSpPr/>
          <p:nvPr/>
        </p:nvSpPr>
        <p:spPr>
          <a:xfrm>
            <a:off x="37339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38862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17"/>
          <p:cNvSpPr/>
          <p:nvPr/>
        </p:nvSpPr>
        <p:spPr>
          <a:xfrm>
            <a:off x="43434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48006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9"/>
          <p:cNvSpPr/>
          <p:nvPr/>
        </p:nvSpPr>
        <p:spPr>
          <a:xfrm>
            <a:off x="37339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20"/>
          <p:cNvSpPr/>
          <p:nvPr/>
        </p:nvSpPr>
        <p:spPr>
          <a:xfrm>
            <a:off x="38862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21"/>
          <p:cNvSpPr/>
          <p:nvPr/>
        </p:nvSpPr>
        <p:spPr>
          <a:xfrm>
            <a:off x="43434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22"/>
          <p:cNvSpPr/>
          <p:nvPr/>
        </p:nvSpPr>
        <p:spPr>
          <a:xfrm>
            <a:off x="4800600" y="47242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3"/>
          <p:cNvSpPr/>
          <p:nvPr/>
        </p:nvSpPr>
        <p:spPr>
          <a:xfrm>
            <a:off x="3733920" y="46483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24"/>
          <p:cNvSpPr/>
          <p:nvPr/>
        </p:nvSpPr>
        <p:spPr>
          <a:xfrm>
            <a:off x="59436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25"/>
          <p:cNvSpPr/>
          <p:nvPr/>
        </p:nvSpPr>
        <p:spPr>
          <a:xfrm>
            <a:off x="64008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26"/>
          <p:cNvSpPr/>
          <p:nvPr/>
        </p:nvSpPr>
        <p:spPr>
          <a:xfrm>
            <a:off x="68580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27"/>
          <p:cNvSpPr/>
          <p:nvPr/>
        </p:nvSpPr>
        <p:spPr>
          <a:xfrm>
            <a:off x="57913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8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9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0"/>
          <p:cNvSpPr/>
          <p:nvPr/>
        </p:nvSpPr>
        <p:spPr>
          <a:xfrm>
            <a:off x="68580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57913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2"/>
          <p:cNvSpPr/>
          <p:nvPr/>
        </p:nvSpPr>
        <p:spPr>
          <a:xfrm>
            <a:off x="1828800" y="28954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33"/>
          <p:cNvSpPr/>
          <p:nvPr/>
        </p:nvSpPr>
        <p:spPr>
          <a:xfrm>
            <a:off x="22860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34"/>
          <p:cNvSpPr/>
          <p:nvPr/>
        </p:nvSpPr>
        <p:spPr>
          <a:xfrm>
            <a:off x="2743200" y="28954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5"/>
          <p:cNvSpPr/>
          <p:nvPr/>
        </p:nvSpPr>
        <p:spPr>
          <a:xfrm>
            <a:off x="1676520" y="28195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36"/>
          <p:cNvSpPr/>
          <p:nvPr/>
        </p:nvSpPr>
        <p:spPr>
          <a:xfrm>
            <a:off x="18288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37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8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1676520" y="3733920"/>
            <a:ext cx="160020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40"/>
          <p:cNvSpPr/>
          <p:nvPr/>
        </p:nvSpPr>
        <p:spPr>
          <a:xfrm flipH="1">
            <a:off x="2437920" y="2209680"/>
            <a:ext cx="12956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1"/>
          <p:cNvSpPr/>
          <p:nvPr/>
        </p:nvSpPr>
        <p:spPr>
          <a:xfrm>
            <a:off x="2438280" y="3276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42"/>
          <p:cNvSpPr/>
          <p:nvPr/>
        </p:nvSpPr>
        <p:spPr>
          <a:xfrm>
            <a:off x="2438280" y="4191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43"/>
          <p:cNvSpPr/>
          <p:nvPr/>
        </p:nvSpPr>
        <p:spPr>
          <a:xfrm flipV="1">
            <a:off x="4495680" y="2437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44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5"/>
          <p:cNvSpPr/>
          <p:nvPr/>
        </p:nvSpPr>
        <p:spPr>
          <a:xfrm>
            <a:off x="5334120" y="2209680"/>
            <a:ext cx="1218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46"/>
          <p:cNvSpPr/>
          <p:nvPr/>
        </p:nvSpPr>
        <p:spPr>
          <a:xfrm>
            <a:off x="6553080" y="3276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47"/>
          <p:cNvSpPr/>
          <p:nvPr/>
        </p:nvSpPr>
        <p:spPr>
          <a:xfrm flipH="1">
            <a:off x="5334120" y="4191120"/>
            <a:ext cx="1218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54"/>
          <p:cNvGrpSpPr/>
          <p:nvPr/>
        </p:nvGrpSpPr>
        <p:grpSpPr>
          <a:xfrm>
            <a:off x="3582360" y="2514600"/>
            <a:ext cx="1819800" cy="1968480"/>
            <a:chOff x="3582360" y="2514600"/>
            <a:chExt cx="1819800" cy="1968480"/>
          </a:xfrm>
        </p:grpSpPr>
        <p:sp>
          <p:nvSpPr>
            <p:cNvPr id="623" name="Text Box 52"/>
            <p:cNvSpPr/>
            <p:nvPr/>
          </p:nvSpPr>
          <p:spPr>
            <a:xfrm>
              <a:off x="3582360" y="25146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53"/>
            <p:cNvSpPr/>
            <p:nvPr/>
          </p:nvSpPr>
          <p:spPr>
            <a:xfrm>
              <a:off x="4649760" y="41148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Line 56"/>
          <p:cNvSpPr/>
          <p:nvPr/>
        </p:nvSpPr>
        <p:spPr>
          <a:xfrm flipV="1">
            <a:off x="4495680" y="2437920"/>
            <a:ext cx="0" cy="381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57"/>
          <p:cNvSpPr/>
          <p:nvPr/>
        </p:nvSpPr>
        <p:spPr>
          <a:xfrm flipH="1">
            <a:off x="2437920" y="2209680"/>
            <a:ext cx="1295640" cy="6098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58"/>
          <p:cNvSpPr/>
          <p:nvPr/>
        </p:nvSpPr>
        <p:spPr>
          <a:xfrm>
            <a:off x="2438280" y="327672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59"/>
          <p:cNvSpPr/>
          <p:nvPr/>
        </p:nvSpPr>
        <p:spPr>
          <a:xfrm>
            <a:off x="2438280" y="4191120"/>
            <a:ext cx="1295640" cy="6858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60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1"/>
          <p:cNvSpPr/>
          <p:nvPr/>
        </p:nvSpPr>
        <p:spPr>
          <a:xfrm>
            <a:off x="210960" y="4457880"/>
            <a:ext cx="29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ften, a problem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represented as a graph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finding a solution is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by performing an operatio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he graph (e.g. finding a 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0F2-4E52-4BDC-8144-1891E0F8BE5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irected grap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finite set of vertices and a finite set of edges; both sets may be empty to represent the empty grap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edge connects two vertices, called the source and target; the edge connects the source to the target (order is signific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E40-054C-4930-ADFE-45DA975EB33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7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irected Graph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1143000" y="25146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1676520" y="350532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7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048120" y="335268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"/>
          <p:cNvSpPr/>
          <p:nvPr/>
        </p:nvSpPr>
        <p:spPr>
          <a:xfrm>
            <a:off x="3124080" y="2044800"/>
            <a:ext cx="45720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17"/>
          <p:cNvCxnSpPr>
            <a:stCxn id="640" idx="6"/>
            <a:endCxn id="642" idx="2"/>
          </p:cNvCxnSpPr>
          <p:nvPr/>
        </p:nvCxnSpPr>
        <p:spPr>
          <a:xfrm>
            <a:off x="2362320" y="2057400"/>
            <a:ext cx="7624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8"/>
          <p:cNvCxnSpPr>
            <a:stCxn id="638" idx="6"/>
            <a:endCxn id="641" idx="2"/>
          </p:cNvCxnSpPr>
          <p:nvPr/>
        </p:nvCxnSpPr>
        <p:spPr>
          <a:xfrm>
            <a:off x="1600200" y="2743200"/>
            <a:ext cx="14486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19"/>
          <p:cNvCxnSpPr>
            <a:stCxn id="638" idx="7"/>
            <a:endCxn id="640" idx="3"/>
          </p:cNvCxnSpPr>
          <p:nvPr/>
        </p:nvCxnSpPr>
        <p:spPr>
          <a:xfrm flipV="1">
            <a:off x="1533240" y="2218680"/>
            <a:ext cx="438840" cy="36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AutoShape 20"/>
          <p:cNvCxnSpPr>
            <a:stCxn id="639" idx="1"/>
            <a:endCxn id="638" idx="4"/>
          </p:cNvCxnSpPr>
          <p:nvPr/>
        </p:nvCxnSpPr>
        <p:spPr>
          <a:xfrm flipH="1" flipV="1">
            <a:off x="1371240" y="2971080"/>
            <a:ext cx="372240" cy="6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7" name="AutoShape 21"/>
          <p:cNvCxnSpPr>
            <a:stCxn id="641" idx="0"/>
            <a:endCxn id="642" idx="4"/>
          </p:cNvCxnSpPr>
          <p:nvPr/>
        </p:nvCxnSpPr>
        <p:spPr>
          <a:xfrm flipV="1">
            <a:off x="3276360" y="2501280"/>
            <a:ext cx="76680" cy="85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48" name="Text Box 22"/>
          <p:cNvSpPr/>
          <p:nvPr/>
        </p:nvSpPr>
        <p:spPr>
          <a:xfrm>
            <a:off x="4415400" y="2590920"/>
            <a:ext cx="357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Useful for modelling dire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phenomena, like geographical trav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or game-playing where move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4415760" y="3886200"/>
            <a:ext cx="36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xamples: modelling states in a ch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game, or Tic-Tac-T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4415040" y="15238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Arrows are used to repre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edges; arrows start at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vertex and point to the target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rosoft Office User</cp:lastModifiedBy>
  <cp:lastPrinted>1999-05-17T11:10:33Z</cp:lastPrinted>
  <dcterms:modified xsi:type="dcterms:W3CDTF">2020-02-19T15:12:51Z</dcterms:modified>
  <cp:revision>39</cp:revision>
  <dc:subject/>
  <dc:title>No Slide Title</dc:title>
</cp:coreProperties>
</file>